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FA9-F986-4DD2-B8CF-3989834B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1EC-59FF-409A-AC44-2C68A49C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5D7-7301-4811-AD06-6CF99B62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3CC-135F-4BCC-90C5-5CDA8F40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5585-13A8-44B0-8C34-F2988D11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F633-C068-4ED5-AB49-7627943E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6F8A-0FCA-4844-9192-D9834F9F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7639-1B21-4AC1-807E-57203CB1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E53E-0085-4046-B3D2-A416061B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CA8E-2B56-49D2-94E8-EB861F8A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4A0F-A870-4A75-BE35-4B8DFA60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C7B-A941-4FD7-BAC6-36B5DAFE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5580-51F3-4B6D-A374-41610C2B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7AC9-A1D2-4E23-81D2-B16E8305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9F77-0F2A-45D5-9FF1-84F4E9B2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AD76-A64D-434D-BAAB-49E48AF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00C3-93D8-44B2-9E3C-0CC92C68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431-9DEC-44B5-B0BE-47E460E8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C49-6166-407A-A165-0799F4E5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E23-9206-44CD-A35F-F8F35A44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DCF-D97A-4E75-9C6F-5A3C176B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97F-D9C5-46A4-A0AE-66AAEE5B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20B-ED95-4999-B5C9-8B8098BF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4B3-492D-40DD-AFEE-B1E99CF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8AB0-6991-432D-817A-3D77AD3978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47CA-8909-462F-A68E-B76914439D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60720" y="2678040"/>
            <a:ext cx="3313080" cy="716040"/>
          </a:xfrm>
          <a:custGeom>
            <a:avLst/>
            <a:gdLst/>
            <a:ahLst/>
            <a:rect l="l" t="t" r="r" b="b"/>
            <a:pathLst>
              <a:path w="9203" h="1986">
                <a:moveTo>
                  <a:pt x="8111" y="7789"/>
                </a:moveTo>
                <a:cubicBezTo>
                  <a:pt x="8233" y="7938"/>
                  <a:pt x="8328" y="8044"/>
                  <a:pt x="8483" y="8161"/>
                </a:cubicBezTo>
              </a:path>
              <a:path w="9203" h="1986">
                <a:moveTo>
                  <a:pt x="11832" y="7541"/>
                </a:moveTo>
                <a:cubicBezTo>
                  <a:pt x="11966" y="7507"/>
                  <a:pt x="12034" y="7486"/>
                  <a:pt x="12129" y="7441"/>
                </a:cubicBezTo>
              </a:path>
              <a:path w="9203" h="1986">
                <a:moveTo>
                  <a:pt x="12055" y="7739"/>
                </a:moveTo>
                <a:cubicBezTo>
                  <a:pt x="12113" y="7722"/>
                  <a:pt x="12171" y="7706"/>
                  <a:pt x="12229" y="7689"/>
                </a:cubicBezTo>
              </a:path>
              <a:path w="9203" h="1986">
                <a:moveTo>
                  <a:pt x="12229" y="7689"/>
                </a:moveTo>
                <a:lnTo>
                  <a:pt x="12229" y="7689"/>
                </a:lnTo>
              </a:path>
              <a:path w="9203" h="1986">
                <a:moveTo>
                  <a:pt x="15081" y="8186"/>
                </a:moveTo>
                <a:cubicBezTo>
                  <a:pt x="15255" y="8254"/>
                  <a:pt x="15221" y="8447"/>
                  <a:pt x="15081" y="8558"/>
                </a:cubicBezTo>
                <a:cubicBezTo>
                  <a:pt x="15015" y="8583"/>
                  <a:pt x="14949" y="8607"/>
                  <a:pt x="14883" y="8632"/>
                </a:cubicBezTo>
              </a:path>
              <a:path w="9203" h="1986">
                <a:moveTo>
                  <a:pt x="6003" y="9302"/>
                </a:moveTo>
                <a:cubicBezTo>
                  <a:pt x="6046" y="9441"/>
                  <a:pt x="6124" y="9496"/>
                  <a:pt x="6251" y="9351"/>
                </a:cubicBezTo>
                <a:cubicBezTo>
                  <a:pt x="6279" y="9269"/>
                  <a:pt x="6285" y="9237"/>
                  <a:pt x="6251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7680" y="2660760"/>
            <a:ext cx="1955520" cy="795240"/>
          </a:xfrm>
          <a:custGeom>
            <a:avLst/>
            <a:gdLst/>
            <a:ahLst/>
            <a:rect l="l" t="t" r="r" b="b"/>
            <a:pathLst>
              <a:path w="5433" h="2208">
                <a:moveTo>
                  <a:pt x="7938" y="7615"/>
                </a:moveTo>
                <a:cubicBezTo>
                  <a:pt x="7764" y="7538"/>
                  <a:pt x="7651" y="7558"/>
                  <a:pt x="7466" y="7640"/>
                </a:cubicBezTo>
                <a:cubicBezTo>
                  <a:pt x="7285" y="7741"/>
                  <a:pt x="7232" y="7739"/>
                  <a:pt x="7193" y="7863"/>
                </a:cubicBezTo>
                <a:cubicBezTo>
                  <a:pt x="7386" y="8034"/>
                  <a:pt x="7721" y="8096"/>
                  <a:pt x="7640" y="8434"/>
                </a:cubicBezTo>
                <a:cubicBezTo>
                  <a:pt x="7607" y="8475"/>
                  <a:pt x="7574" y="8517"/>
                  <a:pt x="7541" y="8558"/>
                </a:cubicBezTo>
                <a:cubicBezTo>
                  <a:pt x="7381" y="8345"/>
                  <a:pt x="7525" y="8071"/>
                  <a:pt x="7640" y="7813"/>
                </a:cubicBezTo>
                <a:cubicBezTo>
                  <a:pt x="7676" y="7740"/>
                  <a:pt x="7693" y="7735"/>
                  <a:pt x="7689" y="7689"/>
                </a:cubicBezTo>
              </a:path>
              <a:path w="5433" h="2208">
                <a:moveTo>
                  <a:pt x="8458" y="7714"/>
                </a:moveTo>
                <a:cubicBezTo>
                  <a:pt x="8395" y="7844"/>
                  <a:pt x="8155" y="8240"/>
                  <a:pt x="8235" y="8260"/>
                </a:cubicBezTo>
              </a:path>
              <a:path w="5433" h="2208">
                <a:moveTo>
                  <a:pt x="9351" y="7417"/>
                </a:moveTo>
                <a:cubicBezTo>
                  <a:pt x="9138" y="7430"/>
                  <a:pt x="8863" y="7614"/>
                  <a:pt x="8806" y="7863"/>
                </a:cubicBezTo>
                <a:cubicBezTo>
                  <a:pt x="8796" y="7907"/>
                  <a:pt x="9155" y="8081"/>
                  <a:pt x="9203" y="8161"/>
                </a:cubicBezTo>
                <a:cubicBezTo>
                  <a:pt x="9170" y="8169"/>
                  <a:pt x="9136" y="8178"/>
                  <a:pt x="9103" y="8186"/>
                </a:cubicBezTo>
                <a:cubicBezTo>
                  <a:pt x="8974" y="7912"/>
                  <a:pt x="9059" y="7794"/>
                  <a:pt x="9227" y="7541"/>
                </a:cubicBezTo>
              </a:path>
              <a:path w="5433" h="2208">
                <a:moveTo>
                  <a:pt x="9823" y="7565"/>
                </a:moveTo>
                <a:cubicBezTo>
                  <a:pt x="9938" y="7731"/>
                  <a:pt x="10056" y="8278"/>
                  <a:pt x="10120" y="8086"/>
                </a:cubicBezTo>
                <a:cubicBezTo>
                  <a:pt x="10120" y="8045"/>
                  <a:pt x="10120" y="8003"/>
                  <a:pt x="10120" y="7962"/>
                </a:cubicBezTo>
              </a:path>
              <a:path w="5433" h="2208">
                <a:moveTo>
                  <a:pt x="10071" y="7640"/>
                </a:moveTo>
                <a:cubicBezTo>
                  <a:pt x="9976" y="7831"/>
                  <a:pt x="9829" y="8044"/>
                  <a:pt x="9798" y="8260"/>
                </a:cubicBezTo>
              </a:path>
              <a:path w="5433" h="2208">
                <a:moveTo>
                  <a:pt x="6449" y="8062"/>
                </a:moveTo>
                <a:cubicBezTo>
                  <a:pt x="6359" y="8039"/>
                  <a:pt x="6427" y="8090"/>
                  <a:pt x="6524" y="8161"/>
                </a:cubicBezTo>
                <a:cubicBezTo>
                  <a:pt x="6717" y="8302"/>
                  <a:pt x="6736" y="8301"/>
                  <a:pt x="6722" y="8037"/>
                </a:cubicBezTo>
                <a:cubicBezTo>
                  <a:pt x="6714" y="7954"/>
                  <a:pt x="6705" y="7872"/>
                  <a:pt x="6697" y="7789"/>
                </a:cubicBezTo>
                <a:cubicBezTo>
                  <a:pt x="6689" y="7764"/>
                  <a:pt x="6680" y="7739"/>
                  <a:pt x="6672" y="7714"/>
                </a:cubicBezTo>
                <a:cubicBezTo>
                  <a:pt x="6628" y="7850"/>
                  <a:pt x="6538" y="8507"/>
                  <a:pt x="6350" y="8508"/>
                </a:cubicBezTo>
                <a:cubicBezTo>
                  <a:pt x="6317" y="8483"/>
                  <a:pt x="6284" y="8459"/>
                  <a:pt x="6251" y="8434"/>
                </a:cubicBezTo>
              </a:path>
              <a:path w="5433" h="2208">
                <a:moveTo>
                  <a:pt x="5804" y="7888"/>
                </a:moveTo>
                <a:cubicBezTo>
                  <a:pt x="5615" y="7872"/>
                  <a:pt x="5561" y="8045"/>
                  <a:pt x="5556" y="8235"/>
                </a:cubicBezTo>
                <a:cubicBezTo>
                  <a:pt x="5551" y="8399"/>
                  <a:pt x="5947" y="8224"/>
                  <a:pt x="6003" y="8384"/>
                </a:cubicBezTo>
                <a:cubicBezTo>
                  <a:pt x="5986" y="8425"/>
                  <a:pt x="5970" y="8467"/>
                  <a:pt x="5953" y="8508"/>
                </a:cubicBezTo>
                <a:cubicBezTo>
                  <a:pt x="5912" y="8533"/>
                  <a:pt x="5870" y="8557"/>
                  <a:pt x="5829" y="8582"/>
                </a:cubicBezTo>
                <a:cubicBezTo>
                  <a:pt x="5761" y="8360"/>
                  <a:pt x="5839" y="8010"/>
                  <a:pt x="5730" y="7813"/>
                </a:cubicBezTo>
                <a:cubicBezTo>
                  <a:pt x="5684" y="7730"/>
                  <a:pt x="5680" y="7896"/>
                  <a:pt x="5705" y="7987"/>
                </a:cubicBezTo>
              </a:path>
              <a:path w="5433" h="2208">
                <a:moveTo>
                  <a:pt x="5085" y="8458"/>
                </a:moveTo>
                <a:cubicBezTo>
                  <a:pt x="5152" y="8394"/>
                  <a:pt x="5327" y="8632"/>
                  <a:pt x="5383" y="8607"/>
                </a:cubicBezTo>
                <a:cubicBezTo>
                  <a:pt x="5475" y="8566"/>
                  <a:pt x="5291" y="8284"/>
                  <a:pt x="5259" y="8235"/>
                </a:cubicBezTo>
                <a:cubicBezTo>
                  <a:pt x="5226" y="8391"/>
                  <a:pt x="5206" y="8621"/>
                  <a:pt x="5135" y="8731"/>
                </a:cubicBezTo>
              </a:path>
              <a:path w="5433" h="2208">
                <a:moveTo>
                  <a:pt x="4986" y="8161"/>
                </a:moveTo>
                <a:cubicBezTo>
                  <a:pt x="4893" y="8248"/>
                  <a:pt x="4602" y="8501"/>
                  <a:pt x="4688" y="8657"/>
                </a:cubicBezTo>
                <a:cubicBezTo>
                  <a:pt x="4817" y="8891"/>
                  <a:pt x="5020" y="8701"/>
                  <a:pt x="5035" y="9054"/>
                </a:cubicBezTo>
                <a:cubicBezTo>
                  <a:pt x="5010" y="9079"/>
                  <a:pt x="4986" y="9103"/>
                  <a:pt x="4961" y="9128"/>
                </a:cubicBezTo>
                <a:cubicBezTo>
                  <a:pt x="4888" y="8869"/>
                  <a:pt x="4991" y="8518"/>
                  <a:pt x="4887" y="8285"/>
                </a:cubicBezTo>
                <a:cubicBezTo>
                  <a:pt x="4830" y="8285"/>
                  <a:pt x="4809" y="8290"/>
                  <a:pt x="4787" y="8334"/>
                </a:cubicBezTo>
              </a:path>
              <a:path w="5433" h="2208">
                <a:moveTo>
                  <a:pt x="6127" y="9029"/>
                </a:moveTo>
                <a:cubicBezTo>
                  <a:pt x="6150" y="9155"/>
                  <a:pt x="6149" y="9509"/>
                  <a:pt x="6226" y="9599"/>
                </a:cubicBezTo>
                <a:cubicBezTo>
                  <a:pt x="6234" y="9591"/>
                  <a:pt x="6243" y="9583"/>
                  <a:pt x="6251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48040" y="2598840"/>
            <a:ext cx="144360" cy="295200"/>
          </a:xfrm>
          <a:custGeom>
            <a:avLst/>
            <a:gdLst/>
            <a:ahLst/>
            <a:rect l="l" t="t" r="r" b="b"/>
            <a:pathLst>
              <a:path w="398" h="820">
                <a:moveTo>
                  <a:pt x="11088" y="7218"/>
                </a:moveTo>
                <a:cubicBezTo>
                  <a:pt x="11052" y="7250"/>
                  <a:pt x="10628" y="7582"/>
                  <a:pt x="10691" y="7640"/>
                </a:cubicBezTo>
                <a:cubicBezTo>
                  <a:pt x="10856" y="7790"/>
                  <a:pt x="11024" y="7769"/>
                  <a:pt x="11038" y="7987"/>
                </a:cubicBezTo>
                <a:cubicBezTo>
                  <a:pt x="10997" y="8004"/>
                  <a:pt x="10955" y="8020"/>
                  <a:pt x="10914" y="8037"/>
                </a:cubicBezTo>
                <a:cubicBezTo>
                  <a:pt x="10857" y="7754"/>
                  <a:pt x="11009" y="7574"/>
                  <a:pt x="11063" y="7293"/>
                </a:cubicBezTo>
                <a:cubicBezTo>
                  <a:pt x="11020" y="7293"/>
                  <a:pt x="10995" y="7298"/>
                  <a:pt x="10964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9200" y="2554200"/>
            <a:ext cx="1509840" cy="625680"/>
          </a:xfrm>
          <a:custGeom>
            <a:avLst/>
            <a:gdLst/>
            <a:ahLst/>
            <a:rect l="l" t="t" r="r" b="b"/>
            <a:pathLst>
              <a:path w="4193" h="1737">
                <a:moveTo>
                  <a:pt x="13320" y="7417"/>
                </a:moveTo>
                <a:cubicBezTo>
                  <a:pt x="13364" y="7329"/>
                  <a:pt x="13562" y="7245"/>
                  <a:pt x="13667" y="7317"/>
                </a:cubicBezTo>
                <a:cubicBezTo>
                  <a:pt x="13768" y="7386"/>
                  <a:pt x="13528" y="7581"/>
                  <a:pt x="13494" y="7615"/>
                </a:cubicBezTo>
                <a:cubicBezTo>
                  <a:pt x="13725" y="7632"/>
                  <a:pt x="13959" y="7715"/>
                  <a:pt x="13717" y="7987"/>
                </a:cubicBezTo>
                <a:cubicBezTo>
                  <a:pt x="13543" y="8183"/>
                  <a:pt x="13403" y="8118"/>
                  <a:pt x="13221" y="8037"/>
                </a:cubicBezTo>
              </a:path>
              <a:path w="4193" h="1737">
                <a:moveTo>
                  <a:pt x="14412" y="7392"/>
                </a:moveTo>
                <a:cubicBezTo>
                  <a:pt x="14634" y="7377"/>
                  <a:pt x="15111" y="7456"/>
                  <a:pt x="14908" y="7838"/>
                </a:cubicBezTo>
                <a:cubicBezTo>
                  <a:pt x="14785" y="8069"/>
                  <a:pt x="14576" y="8016"/>
                  <a:pt x="14387" y="7987"/>
                </a:cubicBezTo>
                <a:cubicBezTo>
                  <a:pt x="14574" y="7865"/>
                  <a:pt x="14862" y="7763"/>
                  <a:pt x="15032" y="8012"/>
                </a:cubicBezTo>
                <a:cubicBezTo>
                  <a:pt x="15024" y="8020"/>
                  <a:pt x="15015" y="8029"/>
                  <a:pt x="15007" y="8037"/>
                </a:cubicBezTo>
              </a:path>
              <a:path w="4193" h="1737">
                <a:moveTo>
                  <a:pt x="14312" y="8161"/>
                </a:moveTo>
                <a:cubicBezTo>
                  <a:pt x="14252" y="8161"/>
                  <a:pt x="14080" y="8266"/>
                  <a:pt x="13990" y="8334"/>
                </a:cubicBezTo>
                <a:cubicBezTo>
                  <a:pt x="14097" y="8243"/>
                  <a:pt x="14668" y="7817"/>
                  <a:pt x="14263" y="8186"/>
                </a:cubicBezTo>
                <a:cubicBezTo>
                  <a:pt x="13644" y="8751"/>
                  <a:pt x="14293" y="8276"/>
                  <a:pt x="14511" y="8136"/>
                </a:cubicBezTo>
                <a:cubicBezTo>
                  <a:pt x="14329" y="8289"/>
                  <a:pt x="14137" y="8424"/>
                  <a:pt x="13940" y="8558"/>
                </a:cubicBezTo>
                <a:cubicBezTo>
                  <a:pt x="14518" y="8307"/>
                  <a:pt x="14326" y="8542"/>
                  <a:pt x="13791" y="8830"/>
                </a:cubicBezTo>
                <a:cubicBezTo>
                  <a:pt x="13758" y="8830"/>
                  <a:pt x="13725" y="8830"/>
                  <a:pt x="13692" y="8830"/>
                </a:cubicBezTo>
              </a:path>
              <a:path w="4193" h="1737">
                <a:moveTo>
                  <a:pt x="15453" y="7342"/>
                </a:moveTo>
                <a:cubicBezTo>
                  <a:pt x="15653" y="7292"/>
                  <a:pt x="15852" y="7259"/>
                  <a:pt x="16049" y="7193"/>
                </a:cubicBezTo>
                <a:cubicBezTo>
                  <a:pt x="16049" y="7465"/>
                  <a:pt x="16025" y="7697"/>
                  <a:pt x="15974" y="7962"/>
                </a:cubicBezTo>
                <a:cubicBezTo>
                  <a:pt x="15974" y="7970"/>
                  <a:pt x="15974" y="7979"/>
                  <a:pt x="15974" y="7987"/>
                </a:cubicBezTo>
              </a:path>
              <a:path w="4193" h="1737">
                <a:moveTo>
                  <a:pt x="16495" y="7094"/>
                </a:moveTo>
                <a:cubicBezTo>
                  <a:pt x="16410" y="7332"/>
                  <a:pt x="16385" y="7587"/>
                  <a:pt x="16446" y="7838"/>
                </a:cubicBezTo>
                <a:cubicBezTo>
                  <a:pt x="16462" y="7863"/>
                  <a:pt x="16479" y="7888"/>
                  <a:pt x="16495" y="7913"/>
                </a:cubicBezTo>
                <a:cubicBezTo>
                  <a:pt x="16711" y="7805"/>
                  <a:pt x="16981" y="7708"/>
                  <a:pt x="16942" y="7466"/>
                </a:cubicBezTo>
                <a:cubicBezTo>
                  <a:pt x="16842" y="7527"/>
                  <a:pt x="16581" y="7976"/>
                  <a:pt x="16619" y="7962"/>
                </a:cubicBezTo>
                <a:cubicBezTo>
                  <a:pt x="16660" y="7921"/>
                  <a:pt x="16702" y="7879"/>
                  <a:pt x="16743" y="7838"/>
                </a:cubicBezTo>
              </a:path>
              <a:path w="4193" h="1737">
                <a:moveTo>
                  <a:pt x="17264" y="7094"/>
                </a:moveTo>
                <a:cubicBezTo>
                  <a:pt x="16924" y="7434"/>
                  <a:pt x="17030" y="7344"/>
                  <a:pt x="17338" y="7565"/>
                </a:cubicBezTo>
                <a:cubicBezTo>
                  <a:pt x="17408" y="7659"/>
                  <a:pt x="17435" y="7685"/>
                  <a:pt x="17388" y="7764"/>
                </a:cubicBezTo>
                <a:cubicBezTo>
                  <a:pt x="17355" y="7780"/>
                  <a:pt x="17322" y="7797"/>
                  <a:pt x="17289" y="7813"/>
                </a:cubicBezTo>
                <a:cubicBezTo>
                  <a:pt x="17208" y="7562"/>
                  <a:pt x="17275" y="7416"/>
                  <a:pt x="17413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0240" y="3116160"/>
            <a:ext cx="339840" cy="428760"/>
          </a:xfrm>
          <a:custGeom>
            <a:avLst/>
            <a:gdLst/>
            <a:ahLst/>
            <a:rect l="l" t="t" r="r" b="b"/>
            <a:pathLst>
              <a:path w="944" h="1191">
                <a:moveTo>
                  <a:pt x="5085" y="8930"/>
                </a:moveTo>
                <a:cubicBezTo>
                  <a:pt x="5171" y="8930"/>
                  <a:pt x="5164" y="8967"/>
                  <a:pt x="5209" y="9054"/>
                </a:cubicBezTo>
                <a:cubicBezTo>
                  <a:pt x="5246" y="9127"/>
                  <a:pt x="5263" y="9132"/>
                  <a:pt x="5259" y="9178"/>
                </a:cubicBezTo>
                <a:cubicBezTo>
                  <a:pt x="5496" y="9059"/>
                  <a:pt x="5747" y="8959"/>
                  <a:pt x="5978" y="8830"/>
                </a:cubicBezTo>
                <a:cubicBezTo>
                  <a:pt x="6056" y="8786"/>
                  <a:pt x="6006" y="8741"/>
                  <a:pt x="5978" y="8657"/>
                </a:cubicBezTo>
              </a:path>
              <a:path w="944" h="1191">
                <a:moveTo>
                  <a:pt x="5581" y="9252"/>
                </a:moveTo>
                <a:cubicBezTo>
                  <a:pt x="5507" y="9277"/>
                  <a:pt x="5523" y="9565"/>
                  <a:pt x="5531" y="9624"/>
                </a:cubicBezTo>
                <a:cubicBezTo>
                  <a:pt x="5567" y="9880"/>
                  <a:pt x="5750" y="9930"/>
                  <a:pt x="5879" y="9674"/>
                </a:cubicBezTo>
                <a:cubicBezTo>
                  <a:pt x="5895" y="9608"/>
                  <a:pt x="5912" y="9541"/>
                  <a:pt x="5928" y="9475"/>
                </a:cubicBezTo>
                <a:cubicBezTo>
                  <a:pt x="5920" y="9450"/>
                  <a:pt x="5912" y="9426"/>
                  <a:pt x="5904" y="9401"/>
                </a:cubicBezTo>
                <a:cubicBezTo>
                  <a:pt x="5799" y="9505"/>
                  <a:pt x="5720" y="9641"/>
                  <a:pt x="5804" y="9798"/>
                </a:cubicBezTo>
                <a:cubicBezTo>
                  <a:pt x="5812" y="9798"/>
                  <a:pt x="5821" y="9798"/>
                  <a:pt x="5829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03720" y="2928960"/>
            <a:ext cx="2206440" cy="1455840"/>
          </a:xfrm>
          <a:custGeom>
            <a:avLst/>
            <a:gdLst/>
            <a:ahLst/>
            <a:rect l="l" t="t" r="r" b="b"/>
            <a:pathLst>
              <a:path w="6127" h="4044">
                <a:moveTo>
                  <a:pt x="15280" y="8136"/>
                </a:moveTo>
                <a:cubicBezTo>
                  <a:pt x="15288" y="8169"/>
                  <a:pt x="15296" y="8202"/>
                  <a:pt x="15304" y="8235"/>
                </a:cubicBezTo>
              </a:path>
              <a:path w="6127" h="4044">
                <a:moveTo>
                  <a:pt x="15304" y="8235"/>
                </a:moveTo>
                <a:lnTo>
                  <a:pt x="15304" y="8235"/>
                </a:lnTo>
              </a:path>
              <a:path w="6127" h="4044">
                <a:moveTo>
                  <a:pt x="14163" y="8235"/>
                </a:moveTo>
                <a:cubicBezTo>
                  <a:pt x="14149" y="8411"/>
                  <a:pt x="14149" y="8478"/>
                  <a:pt x="14039" y="8607"/>
                </a:cubicBezTo>
              </a:path>
              <a:path w="6127" h="4044">
                <a:moveTo>
                  <a:pt x="9302" y="11658"/>
                </a:moveTo>
                <a:cubicBezTo>
                  <a:pt x="9263" y="11852"/>
                  <a:pt x="9200" y="11931"/>
                  <a:pt x="9203" y="12129"/>
                </a:cubicBezTo>
              </a:path>
              <a:path w="6127" h="4044">
                <a:moveTo>
                  <a:pt x="10046" y="11559"/>
                </a:moveTo>
                <a:cubicBezTo>
                  <a:pt x="10086" y="11722"/>
                  <a:pt x="10131" y="11952"/>
                  <a:pt x="10195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03720" y="3751200"/>
            <a:ext cx="4591080" cy="1008000"/>
          </a:xfrm>
          <a:custGeom>
            <a:avLst/>
            <a:gdLst/>
            <a:ahLst/>
            <a:rect l="l" t="t" r="r" b="b"/>
            <a:pathLst>
              <a:path w="12750" h="2804">
                <a:moveTo>
                  <a:pt x="11286" y="11609"/>
                </a:moveTo>
                <a:cubicBezTo>
                  <a:pt x="11187" y="11846"/>
                  <a:pt x="11159" y="11881"/>
                  <a:pt x="11137" y="12030"/>
                </a:cubicBezTo>
              </a:path>
              <a:path w="12750" h="2804">
                <a:moveTo>
                  <a:pt x="13717" y="11311"/>
                </a:moveTo>
                <a:cubicBezTo>
                  <a:pt x="13867" y="11333"/>
                  <a:pt x="13901" y="11347"/>
                  <a:pt x="13990" y="11311"/>
                </a:cubicBezTo>
              </a:path>
              <a:path w="12750" h="2804">
                <a:moveTo>
                  <a:pt x="13816" y="11509"/>
                </a:moveTo>
                <a:cubicBezTo>
                  <a:pt x="14000" y="11487"/>
                  <a:pt x="14053" y="11483"/>
                  <a:pt x="14163" y="11435"/>
                </a:cubicBezTo>
              </a:path>
              <a:path w="12750" h="2804">
                <a:moveTo>
                  <a:pt x="14163" y="11435"/>
                </a:moveTo>
                <a:lnTo>
                  <a:pt x="14163" y="11435"/>
                </a:lnTo>
              </a:path>
              <a:path w="12750" h="2804">
                <a:moveTo>
                  <a:pt x="15801" y="11584"/>
                </a:moveTo>
                <a:cubicBezTo>
                  <a:pt x="15839" y="11661"/>
                  <a:pt x="15838" y="11676"/>
                  <a:pt x="15875" y="11708"/>
                </a:cubicBezTo>
              </a:path>
              <a:path w="12750" h="2804">
                <a:moveTo>
                  <a:pt x="9302" y="11509"/>
                </a:moveTo>
                <a:cubicBezTo>
                  <a:pt x="9230" y="11617"/>
                  <a:pt x="9132" y="11738"/>
                  <a:pt x="9227" y="11757"/>
                </a:cubicBezTo>
              </a:path>
              <a:path w="12750" h="2804">
                <a:moveTo>
                  <a:pt x="9947" y="12923"/>
                </a:moveTo>
                <a:cubicBezTo>
                  <a:pt x="9919" y="13008"/>
                  <a:pt x="9894" y="13139"/>
                  <a:pt x="9996" y="13196"/>
                </a:cubicBezTo>
                <a:cubicBezTo>
                  <a:pt x="10129" y="13270"/>
                  <a:pt x="10302" y="13184"/>
                  <a:pt x="10418" y="13122"/>
                </a:cubicBezTo>
              </a:path>
              <a:path w="12750" h="2804">
                <a:moveTo>
                  <a:pt x="21927" y="10418"/>
                </a:moveTo>
                <a:cubicBezTo>
                  <a:pt x="21831" y="10615"/>
                  <a:pt x="21739" y="10810"/>
                  <a:pt x="21654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33800" y="4375080"/>
            <a:ext cx="546120" cy="492120"/>
          </a:xfrm>
          <a:custGeom>
            <a:avLst/>
            <a:gdLst/>
            <a:ahLst/>
            <a:rect l="l" t="t" r="r" b="b"/>
            <a:pathLst>
              <a:path w="1515" h="1366">
                <a:moveTo>
                  <a:pt x="8756" y="12402"/>
                </a:moveTo>
                <a:cubicBezTo>
                  <a:pt x="8738" y="12502"/>
                  <a:pt x="8716" y="12600"/>
                  <a:pt x="8706" y="12700"/>
                </a:cubicBezTo>
                <a:cubicBezTo>
                  <a:pt x="8905" y="12688"/>
                  <a:pt x="9103" y="12686"/>
                  <a:pt x="9302" y="12675"/>
                </a:cubicBezTo>
                <a:cubicBezTo>
                  <a:pt x="9570" y="12660"/>
                  <a:pt x="9860" y="12650"/>
                  <a:pt x="10120" y="12601"/>
                </a:cubicBezTo>
                <a:cubicBezTo>
                  <a:pt x="10213" y="12583"/>
                  <a:pt x="10175" y="12471"/>
                  <a:pt x="10195" y="12378"/>
                </a:cubicBezTo>
                <a:cubicBezTo>
                  <a:pt x="10214" y="12246"/>
                  <a:pt x="10222" y="12229"/>
                  <a:pt x="10220" y="12154"/>
                </a:cubicBezTo>
              </a:path>
              <a:path w="1515" h="1366">
                <a:moveTo>
                  <a:pt x="8954" y="12824"/>
                </a:moveTo>
                <a:cubicBezTo>
                  <a:pt x="8963" y="13047"/>
                  <a:pt x="8934" y="13306"/>
                  <a:pt x="8954" y="13519"/>
                </a:cubicBezTo>
                <a:cubicBezTo>
                  <a:pt x="9008" y="13519"/>
                  <a:pt x="9029" y="13493"/>
                  <a:pt x="9029" y="13419"/>
                </a:cubicBezTo>
              </a:path>
              <a:path w="1515" h="1366">
                <a:moveTo>
                  <a:pt x="9351" y="12998"/>
                </a:moveTo>
                <a:cubicBezTo>
                  <a:pt x="9341" y="13098"/>
                  <a:pt x="9312" y="13195"/>
                  <a:pt x="9302" y="13295"/>
                </a:cubicBezTo>
                <a:cubicBezTo>
                  <a:pt x="9460" y="13282"/>
                  <a:pt x="9613" y="13271"/>
                  <a:pt x="9773" y="13271"/>
                </a:cubicBezTo>
                <a:cubicBezTo>
                  <a:pt x="9806" y="13271"/>
                  <a:pt x="9815" y="13263"/>
                  <a:pt x="9798" y="13221"/>
                </a:cubicBezTo>
              </a:path>
              <a:path w="1515" h="1366">
                <a:moveTo>
                  <a:pt x="9723" y="12898"/>
                </a:moveTo>
                <a:cubicBezTo>
                  <a:pt x="9687" y="13083"/>
                  <a:pt x="9674" y="13256"/>
                  <a:pt x="9674" y="13444"/>
                </a:cubicBezTo>
                <a:cubicBezTo>
                  <a:pt x="9674" y="13502"/>
                  <a:pt x="9694" y="13484"/>
                  <a:pt x="9748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38800" y="3956040"/>
            <a:ext cx="347400" cy="330120"/>
          </a:xfrm>
          <a:custGeom>
            <a:avLst/>
            <a:gdLst/>
            <a:ahLst/>
            <a:rect l="l" t="t" r="r" b="b"/>
            <a:pathLst>
              <a:path w="968" h="919">
                <a:moveTo>
                  <a:pt x="12353" y="10988"/>
                </a:moveTo>
                <a:cubicBezTo>
                  <a:pt x="12335" y="11207"/>
                  <a:pt x="12410" y="11583"/>
                  <a:pt x="12502" y="11807"/>
                </a:cubicBezTo>
                <a:cubicBezTo>
                  <a:pt x="12518" y="11815"/>
                  <a:pt x="12535" y="11824"/>
                  <a:pt x="12551" y="11832"/>
                </a:cubicBezTo>
              </a:path>
              <a:path w="968" h="919">
                <a:moveTo>
                  <a:pt x="12675" y="11013"/>
                </a:moveTo>
                <a:cubicBezTo>
                  <a:pt x="13027" y="11067"/>
                  <a:pt x="13236" y="11231"/>
                  <a:pt x="13047" y="11633"/>
                </a:cubicBezTo>
                <a:cubicBezTo>
                  <a:pt x="12911" y="11924"/>
                  <a:pt x="12783" y="11900"/>
                  <a:pt x="12626" y="11782"/>
                </a:cubicBezTo>
                <a:cubicBezTo>
                  <a:pt x="12852" y="11493"/>
                  <a:pt x="12919" y="11551"/>
                  <a:pt x="13221" y="11733"/>
                </a:cubicBezTo>
                <a:cubicBezTo>
                  <a:pt x="13256" y="11733"/>
                  <a:pt x="13273" y="11728"/>
                  <a:pt x="13295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5960" y="3446640"/>
            <a:ext cx="1722240" cy="1046160"/>
          </a:xfrm>
          <a:custGeom>
            <a:avLst/>
            <a:gdLst/>
            <a:ahLst/>
            <a:rect l="l" t="t" r="r" b="b"/>
            <a:pathLst>
              <a:path w="4788" h="2903">
                <a:moveTo>
                  <a:pt x="15329" y="10765"/>
                </a:moveTo>
                <a:cubicBezTo>
                  <a:pt x="15347" y="10965"/>
                  <a:pt x="15359" y="11189"/>
                  <a:pt x="15404" y="11385"/>
                </a:cubicBezTo>
                <a:cubicBezTo>
                  <a:pt x="15420" y="11426"/>
                  <a:pt x="15437" y="11468"/>
                  <a:pt x="15453" y="11509"/>
                </a:cubicBezTo>
              </a:path>
              <a:path w="4788" h="2903">
                <a:moveTo>
                  <a:pt x="16098" y="10716"/>
                </a:moveTo>
                <a:cubicBezTo>
                  <a:pt x="16264" y="10706"/>
                  <a:pt x="16433" y="10696"/>
                  <a:pt x="16594" y="10666"/>
                </a:cubicBezTo>
                <a:cubicBezTo>
                  <a:pt x="16634" y="10864"/>
                  <a:pt x="16556" y="11125"/>
                  <a:pt x="16545" y="11336"/>
                </a:cubicBezTo>
                <a:cubicBezTo>
                  <a:pt x="16545" y="11470"/>
                  <a:pt x="16528" y="11493"/>
                  <a:pt x="16570" y="11559"/>
                </a:cubicBezTo>
              </a:path>
              <a:path w="4788" h="2903">
                <a:moveTo>
                  <a:pt x="17214" y="10740"/>
                </a:moveTo>
                <a:cubicBezTo>
                  <a:pt x="17470" y="10780"/>
                  <a:pt x="17777" y="10871"/>
                  <a:pt x="17611" y="11212"/>
                </a:cubicBezTo>
                <a:cubicBezTo>
                  <a:pt x="17503" y="11435"/>
                  <a:pt x="17339" y="11451"/>
                  <a:pt x="17140" y="11460"/>
                </a:cubicBezTo>
                <a:cubicBezTo>
                  <a:pt x="17198" y="11263"/>
                  <a:pt x="17331" y="11129"/>
                  <a:pt x="17562" y="11261"/>
                </a:cubicBezTo>
                <a:cubicBezTo>
                  <a:pt x="17712" y="11347"/>
                  <a:pt x="17672" y="11543"/>
                  <a:pt x="17785" y="11559"/>
                </a:cubicBezTo>
              </a:path>
              <a:path w="4788" h="2903">
                <a:moveTo>
                  <a:pt x="18529" y="10641"/>
                </a:moveTo>
                <a:cubicBezTo>
                  <a:pt x="18354" y="10740"/>
                  <a:pt x="18262" y="10775"/>
                  <a:pt x="18157" y="10939"/>
                </a:cubicBezTo>
                <a:cubicBezTo>
                  <a:pt x="18349" y="11081"/>
                  <a:pt x="18724" y="11210"/>
                  <a:pt x="18604" y="11509"/>
                </a:cubicBezTo>
                <a:cubicBezTo>
                  <a:pt x="18486" y="11626"/>
                  <a:pt x="18453" y="11668"/>
                  <a:pt x="18331" y="11633"/>
                </a:cubicBezTo>
                <a:cubicBezTo>
                  <a:pt x="18354" y="11259"/>
                  <a:pt x="18522" y="11099"/>
                  <a:pt x="18728" y="10790"/>
                </a:cubicBezTo>
                <a:cubicBezTo>
                  <a:pt x="18728" y="10782"/>
                  <a:pt x="18728" y="10773"/>
                  <a:pt x="18728" y="10765"/>
                </a:cubicBezTo>
              </a:path>
              <a:path w="4788" h="2903">
                <a:moveTo>
                  <a:pt x="15503" y="12030"/>
                </a:moveTo>
                <a:cubicBezTo>
                  <a:pt x="15860" y="12103"/>
                  <a:pt x="16225" y="12206"/>
                  <a:pt x="16594" y="12204"/>
                </a:cubicBezTo>
                <a:cubicBezTo>
                  <a:pt x="17345" y="12200"/>
                  <a:pt x="18289" y="12030"/>
                  <a:pt x="18926" y="11609"/>
                </a:cubicBezTo>
                <a:cubicBezTo>
                  <a:pt x="19484" y="11241"/>
                  <a:pt x="19669" y="10700"/>
                  <a:pt x="19174" y="10195"/>
                </a:cubicBezTo>
                <a:cubicBezTo>
                  <a:pt x="18667" y="9678"/>
                  <a:pt x="17720" y="9558"/>
                  <a:pt x="17041" y="9575"/>
                </a:cubicBezTo>
                <a:cubicBezTo>
                  <a:pt x="16200" y="9597"/>
                  <a:pt x="15269" y="9858"/>
                  <a:pt x="14858" y="10666"/>
                </a:cubicBezTo>
                <a:cubicBezTo>
                  <a:pt x="14452" y="11464"/>
                  <a:pt x="14917" y="12273"/>
                  <a:pt x="15751" y="12452"/>
                </a:cubicBezTo>
                <a:cubicBezTo>
                  <a:pt x="16488" y="12478"/>
                  <a:pt x="16745" y="12484"/>
                  <a:pt x="17239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50080" y="3232080"/>
            <a:ext cx="957240" cy="741600"/>
          </a:xfrm>
          <a:custGeom>
            <a:avLst/>
            <a:gdLst/>
            <a:ahLst/>
            <a:rect l="l" t="t" r="r" b="b"/>
            <a:pathLst>
              <a:path w="2656" h="2060">
                <a:moveTo>
                  <a:pt x="22771" y="9227"/>
                </a:moveTo>
                <a:cubicBezTo>
                  <a:pt x="22747" y="9495"/>
                  <a:pt x="22719" y="9757"/>
                  <a:pt x="22671" y="10021"/>
                </a:cubicBezTo>
                <a:cubicBezTo>
                  <a:pt x="22659" y="10085"/>
                  <a:pt x="22647" y="10285"/>
                  <a:pt x="22647" y="10071"/>
                </a:cubicBezTo>
              </a:path>
              <a:path w="2656" h="2060">
                <a:moveTo>
                  <a:pt x="23168" y="9327"/>
                </a:moveTo>
                <a:cubicBezTo>
                  <a:pt x="23146" y="9364"/>
                  <a:pt x="22999" y="9586"/>
                  <a:pt x="23068" y="9624"/>
                </a:cubicBezTo>
                <a:cubicBezTo>
                  <a:pt x="23271" y="9735"/>
                  <a:pt x="23445" y="9585"/>
                  <a:pt x="23540" y="9451"/>
                </a:cubicBezTo>
              </a:path>
              <a:path w="2656" h="2060">
                <a:moveTo>
                  <a:pt x="23416" y="9178"/>
                </a:moveTo>
                <a:cubicBezTo>
                  <a:pt x="23376" y="9433"/>
                  <a:pt x="23351" y="9691"/>
                  <a:pt x="23316" y="9947"/>
                </a:cubicBezTo>
                <a:cubicBezTo>
                  <a:pt x="23316" y="10008"/>
                  <a:pt x="23330" y="9982"/>
                  <a:pt x="23366" y="9847"/>
                </a:cubicBezTo>
              </a:path>
              <a:path w="2656" h="2060">
                <a:moveTo>
                  <a:pt x="23763" y="9178"/>
                </a:moveTo>
                <a:cubicBezTo>
                  <a:pt x="23763" y="9279"/>
                  <a:pt x="23734" y="9412"/>
                  <a:pt x="23788" y="9500"/>
                </a:cubicBezTo>
                <a:cubicBezTo>
                  <a:pt x="23925" y="9723"/>
                  <a:pt x="24113" y="9483"/>
                  <a:pt x="24185" y="9376"/>
                </a:cubicBezTo>
              </a:path>
              <a:path w="2656" h="2060">
                <a:moveTo>
                  <a:pt x="24061" y="8979"/>
                </a:moveTo>
                <a:cubicBezTo>
                  <a:pt x="24131" y="9220"/>
                  <a:pt x="24029" y="9567"/>
                  <a:pt x="24011" y="9847"/>
                </a:cubicBezTo>
                <a:cubicBezTo>
                  <a:pt x="24011" y="9973"/>
                  <a:pt x="24018" y="10000"/>
                  <a:pt x="23986" y="10071"/>
                </a:cubicBezTo>
              </a:path>
              <a:path w="2656" h="2060">
                <a:moveTo>
                  <a:pt x="21530" y="10468"/>
                </a:moveTo>
                <a:cubicBezTo>
                  <a:pt x="21616" y="10651"/>
                  <a:pt x="21696" y="10841"/>
                  <a:pt x="21803" y="11013"/>
                </a:cubicBezTo>
                <a:cubicBezTo>
                  <a:pt x="21855" y="11065"/>
                  <a:pt x="21870" y="11036"/>
                  <a:pt x="21853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30680" y="4017960"/>
            <a:ext cx="607680" cy="376200"/>
          </a:xfrm>
          <a:custGeom>
            <a:avLst/>
            <a:gdLst/>
            <a:ahLst/>
            <a:rect l="l" t="t" r="r" b="b"/>
            <a:pathLst>
              <a:path w="1688" h="1043">
                <a:moveTo>
                  <a:pt x="7863" y="11187"/>
                </a:moveTo>
                <a:cubicBezTo>
                  <a:pt x="7863" y="10937"/>
                  <a:pt x="8000" y="11615"/>
                  <a:pt x="8062" y="11857"/>
                </a:cubicBezTo>
                <a:cubicBezTo>
                  <a:pt x="8113" y="12056"/>
                  <a:pt x="8087" y="12262"/>
                  <a:pt x="8136" y="11956"/>
                </a:cubicBezTo>
              </a:path>
              <a:path w="1688" h="1043">
                <a:moveTo>
                  <a:pt x="8334" y="11311"/>
                </a:moveTo>
                <a:cubicBezTo>
                  <a:pt x="8657" y="11496"/>
                  <a:pt x="8912" y="11755"/>
                  <a:pt x="8582" y="12129"/>
                </a:cubicBezTo>
                <a:cubicBezTo>
                  <a:pt x="8436" y="12203"/>
                  <a:pt x="8389" y="12229"/>
                  <a:pt x="8310" y="12105"/>
                </a:cubicBezTo>
                <a:cubicBezTo>
                  <a:pt x="8353" y="11902"/>
                  <a:pt x="8665" y="11886"/>
                  <a:pt x="8880" y="12030"/>
                </a:cubicBezTo>
                <a:cubicBezTo>
                  <a:pt x="8897" y="12063"/>
                  <a:pt x="8913" y="12096"/>
                  <a:pt x="8930" y="12129"/>
                </a:cubicBezTo>
              </a:path>
              <a:path w="1688" h="1043">
                <a:moveTo>
                  <a:pt x="9079" y="11559"/>
                </a:moveTo>
                <a:cubicBezTo>
                  <a:pt x="9236" y="11666"/>
                  <a:pt x="9379" y="11779"/>
                  <a:pt x="9550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59120" y="4098960"/>
            <a:ext cx="376200" cy="295200"/>
          </a:xfrm>
          <a:custGeom>
            <a:avLst/>
            <a:gdLst/>
            <a:ahLst/>
            <a:rect l="l" t="t" r="r" b="b"/>
            <a:pathLst>
              <a:path w="1043" h="820">
                <a:moveTo>
                  <a:pt x="10443" y="11385"/>
                </a:moveTo>
                <a:cubicBezTo>
                  <a:pt x="10750" y="11549"/>
                  <a:pt x="11079" y="11779"/>
                  <a:pt x="10716" y="12129"/>
                </a:cubicBezTo>
                <a:cubicBezTo>
                  <a:pt x="10562" y="12195"/>
                  <a:pt x="10517" y="12238"/>
                  <a:pt x="10468" y="12105"/>
                </a:cubicBezTo>
                <a:cubicBezTo>
                  <a:pt x="10660" y="11831"/>
                  <a:pt x="10751" y="11998"/>
                  <a:pt x="11038" y="12080"/>
                </a:cubicBezTo>
                <a:cubicBezTo>
                  <a:pt x="11063" y="12080"/>
                  <a:pt x="11087" y="12080"/>
                  <a:pt x="11112" y="12080"/>
                </a:cubicBezTo>
              </a:path>
              <a:path w="1043" h="820">
                <a:moveTo>
                  <a:pt x="11187" y="11509"/>
                </a:moveTo>
                <a:cubicBezTo>
                  <a:pt x="11257" y="11590"/>
                  <a:pt x="11414" y="11787"/>
                  <a:pt x="11485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14840" y="4581360"/>
            <a:ext cx="27000" cy="268560"/>
          </a:xfrm>
          <a:custGeom>
            <a:avLst/>
            <a:gdLst/>
            <a:ahLst/>
            <a:rect l="l" t="t" r="r" b="b"/>
            <a:pathLst>
              <a:path w="75" h="745">
                <a:moveTo>
                  <a:pt x="10393" y="12725"/>
                </a:moveTo>
                <a:cubicBezTo>
                  <a:pt x="10347" y="12963"/>
                  <a:pt x="10330" y="13199"/>
                  <a:pt x="10319" y="13444"/>
                </a:cubicBezTo>
                <a:cubicBezTo>
                  <a:pt x="10319" y="13472"/>
                  <a:pt x="10321" y="13478"/>
                  <a:pt x="10344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27320" y="4626000"/>
            <a:ext cx="133560" cy="1778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1187" y="12874"/>
                </a:moveTo>
                <a:cubicBezTo>
                  <a:pt x="11305" y="12992"/>
                  <a:pt x="11438" y="13109"/>
                  <a:pt x="11534" y="13246"/>
                </a:cubicBezTo>
                <a:cubicBezTo>
                  <a:pt x="11542" y="13262"/>
                  <a:pt x="11551" y="13279"/>
                  <a:pt x="11559" y="13295"/>
                </a:cubicBezTo>
              </a:path>
              <a:path w="373" h="497">
                <a:moveTo>
                  <a:pt x="11509" y="12849"/>
                </a:moveTo>
                <a:cubicBezTo>
                  <a:pt x="11426" y="13010"/>
                  <a:pt x="11086" y="13407"/>
                  <a:pt x="1138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73720" y="4562640"/>
            <a:ext cx="349200" cy="223560"/>
          </a:xfrm>
          <a:custGeom>
            <a:avLst/>
            <a:gdLst/>
            <a:ahLst/>
            <a:rect l="l" t="t" r="r" b="b"/>
            <a:pathLst>
              <a:path w="969" h="621">
                <a:moveTo>
                  <a:pt x="12427" y="12750"/>
                </a:moveTo>
                <a:cubicBezTo>
                  <a:pt x="12465" y="12923"/>
                  <a:pt x="12355" y="13318"/>
                  <a:pt x="12526" y="13271"/>
                </a:cubicBezTo>
                <a:cubicBezTo>
                  <a:pt x="12543" y="13246"/>
                  <a:pt x="12559" y="13221"/>
                  <a:pt x="12576" y="13196"/>
                </a:cubicBezTo>
              </a:path>
              <a:path w="969" h="621">
                <a:moveTo>
                  <a:pt x="12725" y="12700"/>
                </a:moveTo>
                <a:cubicBezTo>
                  <a:pt x="12903" y="12691"/>
                  <a:pt x="13310" y="12726"/>
                  <a:pt x="13271" y="13022"/>
                </a:cubicBezTo>
                <a:cubicBezTo>
                  <a:pt x="13244" y="13224"/>
                  <a:pt x="13015" y="13263"/>
                  <a:pt x="12874" y="13295"/>
                </a:cubicBezTo>
                <a:cubicBezTo>
                  <a:pt x="12859" y="13111"/>
                  <a:pt x="12969" y="13026"/>
                  <a:pt x="13171" y="13022"/>
                </a:cubicBezTo>
                <a:cubicBezTo>
                  <a:pt x="13293" y="13019"/>
                  <a:pt x="13319" y="13072"/>
                  <a:pt x="13395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82960" y="5562720"/>
            <a:ext cx="3303720" cy="260280"/>
          </a:xfrm>
          <a:custGeom>
            <a:avLst/>
            <a:gdLst/>
            <a:ahLst/>
            <a:rect l="l" t="t" r="r" b="b"/>
            <a:pathLst>
              <a:path w="9178" h="721">
                <a:moveTo>
                  <a:pt x="8558" y="15453"/>
                </a:moveTo>
                <a:cubicBezTo>
                  <a:pt x="8463" y="15693"/>
                  <a:pt x="8374" y="15931"/>
                  <a:pt x="8285" y="16173"/>
                </a:cubicBezTo>
              </a:path>
              <a:path w="9178" h="721">
                <a:moveTo>
                  <a:pt x="8285" y="16173"/>
                </a:moveTo>
                <a:lnTo>
                  <a:pt x="8285" y="16173"/>
                </a:lnTo>
              </a:path>
              <a:path w="9178" h="721">
                <a:moveTo>
                  <a:pt x="10468" y="15652"/>
                </a:moveTo>
                <a:cubicBezTo>
                  <a:pt x="10371" y="15855"/>
                  <a:pt x="10151" y="16248"/>
                  <a:pt x="10319" y="16098"/>
                </a:cubicBezTo>
              </a:path>
              <a:path w="9178" h="721">
                <a:moveTo>
                  <a:pt x="17438" y="15850"/>
                </a:moveTo>
                <a:cubicBezTo>
                  <a:pt x="17458" y="15934"/>
                  <a:pt x="17473" y="15953"/>
                  <a:pt x="17438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16120" y="5375160"/>
            <a:ext cx="857160" cy="447840"/>
          </a:xfrm>
          <a:custGeom>
            <a:avLst/>
            <a:gdLst/>
            <a:ahLst/>
            <a:rect l="l" t="t" r="r" b="b"/>
            <a:pathLst>
              <a:path w="2382" h="1242">
                <a:moveTo>
                  <a:pt x="7689" y="15156"/>
                </a:moveTo>
                <a:cubicBezTo>
                  <a:pt x="7708" y="15165"/>
                  <a:pt x="7754" y="15193"/>
                  <a:pt x="7739" y="15131"/>
                </a:cubicBezTo>
                <a:cubicBezTo>
                  <a:pt x="7682" y="15018"/>
                  <a:pt x="7653" y="14974"/>
                  <a:pt x="7565" y="14932"/>
                </a:cubicBezTo>
                <a:cubicBezTo>
                  <a:pt x="7260" y="15151"/>
                  <a:pt x="7244" y="15319"/>
                  <a:pt x="7342" y="15677"/>
                </a:cubicBezTo>
                <a:cubicBezTo>
                  <a:pt x="7557" y="15526"/>
                  <a:pt x="7666" y="15370"/>
                  <a:pt x="7739" y="15205"/>
                </a:cubicBezTo>
                <a:cubicBezTo>
                  <a:pt x="7739" y="15497"/>
                  <a:pt x="7749" y="15783"/>
                  <a:pt x="7764" y="16073"/>
                </a:cubicBezTo>
                <a:cubicBezTo>
                  <a:pt x="7764" y="16140"/>
                  <a:pt x="7764" y="16173"/>
                  <a:pt x="7764" y="16098"/>
                </a:cubicBezTo>
              </a:path>
              <a:path w="2382" h="1242">
                <a:moveTo>
                  <a:pt x="8111" y="15453"/>
                </a:moveTo>
                <a:cubicBezTo>
                  <a:pt x="8216" y="15592"/>
                  <a:pt x="8448" y="16071"/>
                  <a:pt x="8607" y="16123"/>
                </a:cubicBezTo>
                <a:cubicBezTo>
                  <a:pt x="8671" y="16059"/>
                  <a:pt x="8686" y="15997"/>
                  <a:pt x="8657" y="15900"/>
                </a:cubicBezTo>
              </a:path>
              <a:path w="2382" h="1242">
                <a:moveTo>
                  <a:pt x="9451" y="15379"/>
                </a:moveTo>
                <a:cubicBezTo>
                  <a:pt x="9476" y="15301"/>
                  <a:pt x="9439" y="15281"/>
                  <a:pt x="9351" y="15180"/>
                </a:cubicBezTo>
                <a:cubicBezTo>
                  <a:pt x="9061" y="15269"/>
                  <a:pt x="9016" y="15415"/>
                  <a:pt x="9054" y="15726"/>
                </a:cubicBezTo>
                <a:cubicBezTo>
                  <a:pt x="9275" y="15650"/>
                  <a:pt x="9372" y="15531"/>
                  <a:pt x="9550" y="15404"/>
                </a:cubicBezTo>
                <a:cubicBezTo>
                  <a:pt x="9585" y="15660"/>
                  <a:pt x="9610" y="15915"/>
                  <a:pt x="9624" y="16173"/>
                </a:cubicBezTo>
                <a:cubicBezTo>
                  <a:pt x="9624" y="16130"/>
                  <a:pt x="9630" y="16105"/>
                  <a:pt x="9649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25920" y="5554800"/>
            <a:ext cx="196920" cy="241200"/>
          </a:xfrm>
          <a:custGeom>
            <a:avLst/>
            <a:gdLst/>
            <a:ahLst/>
            <a:rect l="l" t="t" r="r" b="b"/>
            <a:pathLst>
              <a:path w="546" h="670">
                <a:moveTo>
                  <a:pt x="10071" y="15429"/>
                </a:moveTo>
                <a:cubicBezTo>
                  <a:pt x="10228" y="15644"/>
                  <a:pt x="10375" y="15866"/>
                  <a:pt x="10542" y="16073"/>
                </a:cubicBezTo>
                <a:cubicBezTo>
                  <a:pt x="10590" y="16121"/>
                  <a:pt x="10610" y="16099"/>
                  <a:pt x="10616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73680" y="5402160"/>
            <a:ext cx="822240" cy="420840"/>
          </a:xfrm>
          <a:custGeom>
            <a:avLst/>
            <a:gdLst/>
            <a:ahLst/>
            <a:rect l="l" t="t" r="r" b="b"/>
            <a:pathLst>
              <a:path w="2283" h="1167">
                <a:moveTo>
                  <a:pt x="11509" y="15404"/>
                </a:moveTo>
                <a:cubicBezTo>
                  <a:pt x="11484" y="15248"/>
                  <a:pt x="11430" y="15203"/>
                  <a:pt x="11311" y="15131"/>
                </a:cubicBezTo>
                <a:cubicBezTo>
                  <a:pt x="11085" y="15344"/>
                  <a:pt x="11041" y="15521"/>
                  <a:pt x="11088" y="15825"/>
                </a:cubicBezTo>
                <a:cubicBezTo>
                  <a:pt x="11322" y="15695"/>
                  <a:pt x="11356" y="15639"/>
                  <a:pt x="11460" y="15379"/>
                </a:cubicBezTo>
                <a:cubicBezTo>
                  <a:pt x="11532" y="15427"/>
                  <a:pt x="11524" y="15836"/>
                  <a:pt x="11534" y="15925"/>
                </a:cubicBezTo>
                <a:cubicBezTo>
                  <a:pt x="11552" y="16075"/>
                  <a:pt x="11503" y="16221"/>
                  <a:pt x="11609" y="16098"/>
                </a:cubicBezTo>
              </a:path>
              <a:path w="2283" h="1167">
                <a:moveTo>
                  <a:pt x="11956" y="15478"/>
                </a:moveTo>
                <a:cubicBezTo>
                  <a:pt x="12021" y="15533"/>
                  <a:pt x="12414" y="15940"/>
                  <a:pt x="12502" y="15925"/>
                </a:cubicBezTo>
                <a:cubicBezTo>
                  <a:pt x="12518" y="15908"/>
                  <a:pt x="12535" y="15892"/>
                  <a:pt x="12551" y="15875"/>
                </a:cubicBezTo>
              </a:path>
              <a:path w="2283" h="1167">
                <a:moveTo>
                  <a:pt x="12353" y="15329"/>
                </a:moveTo>
                <a:cubicBezTo>
                  <a:pt x="12272" y="15584"/>
                  <a:pt x="11947" y="16294"/>
                  <a:pt x="12129" y="16098"/>
                </a:cubicBezTo>
                <a:cubicBezTo>
                  <a:pt x="12171" y="16040"/>
                  <a:pt x="12212" y="15983"/>
                  <a:pt x="12254" y="15925"/>
                </a:cubicBezTo>
              </a:path>
              <a:path w="2283" h="1167">
                <a:moveTo>
                  <a:pt x="13271" y="15255"/>
                </a:moveTo>
                <a:cubicBezTo>
                  <a:pt x="13238" y="15140"/>
                  <a:pt x="13203" y="15125"/>
                  <a:pt x="13122" y="15032"/>
                </a:cubicBezTo>
                <a:cubicBezTo>
                  <a:pt x="12899" y="15065"/>
                  <a:pt x="12667" y="15344"/>
                  <a:pt x="12824" y="15627"/>
                </a:cubicBezTo>
                <a:cubicBezTo>
                  <a:pt x="12974" y="15897"/>
                  <a:pt x="13200" y="15365"/>
                  <a:pt x="13221" y="15329"/>
                </a:cubicBezTo>
                <a:cubicBezTo>
                  <a:pt x="13229" y="15296"/>
                  <a:pt x="13238" y="15263"/>
                  <a:pt x="13246" y="15230"/>
                </a:cubicBezTo>
                <a:cubicBezTo>
                  <a:pt x="13296" y="15464"/>
                  <a:pt x="13300" y="15770"/>
                  <a:pt x="13320" y="16024"/>
                </a:cubicBezTo>
                <a:cubicBezTo>
                  <a:pt x="13320" y="16082"/>
                  <a:pt x="13320" y="16123"/>
                  <a:pt x="13320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41960" y="5500800"/>
            <a:ext cx="160200" cy="81000"/>
          </a:xfrm>
          <a:custGeom>
            <a:avLst/>
            <a:gdLst/>
            <a:ahLst/>
            <a:rect l="l" t="t" r="r" b="b"/>
            <a:pathLst>
              <a:path w="448" h="224">
                <a:moveTo>
                  <a:pt x="14560" y="15304"/>
                </a:moveTo>
                <a:cubicBezTo>
                  <a:pt x="14593" y="15291"/>
                  <a:pt x="14829" y="15286"/>
                  <a:pt x="14908" y="15304"/>
                </a:cubicBezTo>
                <a:cubicBezTo>
                  <a:pt x="14916" y="15312"/>
                  <a:pt x="14924" y="15321"/>
                  <a:pt x="14932" y="15329"/>
                </a:cubicBezTo>
              </a:path>
              <a:path w="448" h="224">
                <a:moveTo>
                  <a:pt x="14560" y="15478"/>
                </a:moveTo>
                <a:cubicBezTo>
                  <a:pt x="14632" y="15475"/>
                  <a:pt x="14978" y="15401"/>
                  <a:pt x="15007" y="15478"/>
                </a:cubicBezTo>
                <a:cubicBezTo>
                  <a:pt x="14999" y="15486"/>
                  <a:pt x="14990" y="15495"/>
                  <a:pt x="14982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11920" y="5438880"/>
            <a:ext cx="231840" cy="295200"/>
          </a:xfrm>
          <a:custGeom>
            <a:avLst/>
            <a:gdLst/>
            <a:ahLst/>
            <a:rect l="l" t="t" r="r" b="b"/>
            <a:pathLst>
              <a:path w="646" h="820">
                <a:moveTo>
                  <a:pt x="16421" y="15106"/>
                </a:moveTo>
                <a:cubicBezTo>
                  <a:pt x="16473" y="15280"/>
                  <a:pt x="16414" y="15449"/>
                  <a:pt x="16421" y="15627"/>
                </a:cubicBezTo>
                <a:cubicBezTo>
                  <a:pt x="16432" y="15924"/>
                  <a:pt x="16708" y="15861"/>
                  <a:pt x="16892" y="15776"/>
                </a:cubicBezTo>
                <a:cubicBezTo>
                  <a:pt x="17081" y="15689"/>
                  <a:pt x="17049" y="15603"/>
                  <a:pt x="17041" y="15429"/>
                </a:cubicBezTo>
                <a:cubicBezTo>
                  <a:pt x="16816" y="15379"/>
                  <a:pt x="16598" y="15509"/>
                  <a:pt x="16619" y="15801"/>
                </a:cubicBezTo>
                <a:cubicBezTo>
                  <a:pt x="16641" y="16107"/>
                  <a:pt x="16870" y="15821"/>
                  <a:pt x="16917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84960" y="5402160"/>
            <a:ext cx="206280" cy="268560"/>
          </a:xfrm>
          <a:custGeom>
            <a:avLst/>
            <a:gdLst/>
            <a:ahLst/>
            <a:rect l="l" t="t" r="r" b="b"/>
            <a:pathLst>
              <a:path w="572" h="745">
                <a:moveTo>
                  <a:pt x="17983" y="15007"/>
                </a:moveTo>
                <a:cubicBezTo>
                  <a:pt x="17835" y="15041"/>
                  <a:pt x="17845" y="14998"/>
                  <a:pt x="17785" y="15156"/>
                </a:cubicBezTo>
                <a:cubicBezTo>
                  <a:pt x="17746" y="15270"/>
                  <a:pt x="17730" y="15284"/>
                  <a:pt x="17735" y="15354"/>
                </a:cubicBezTo>
                <a:cubicBezTo>
                  <a:pt x="17844" y="15372"/>
                  <a:pt x="17971" y="15275"/>
                  <a:pt x="18132" y="15329"/>
                </a:cubicBezTo>
                <a:cubicBezTo>
                  <a:pt x="18319" y="15392"/>
                  <a:pt x="18377" y="15675"/>
                  <a:pt x="18157" y="15751"/>
                </a:cubicBezTo>
                <a:cubicBezTo>
                  <a:pt x="18038" y="15792"/>
                  <a:pt x="17875" y="15732"/>
                  <a:pt x="17760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42080" y="5384880"/>
            <a:ext cx="231840" cy="276120"/>
          </a:xfrm>
          <a:custGeom>
            <a:avLst/>
            <a:gdLst/>
            <a:ahLst/>
            <a:rect l="l" t="t" r="r" b="b"/>
            <a:pathLst>
              <a:path w="645" h="770">
                <a:moveTo>
                  <a:pt x="18752" y="14957"/>
                </a:moveTo>
                <a:cubicBezTo>
                  <a:pt x="18696" y="14977"/>
                  <a:pt x="18725" y="15264"/>
                  <a:pt x="18728" y="15304"/>
                </a:cubicBezTo>
                <a:cubicBezTo>
                  <a:pt x="18746" y="15564"/>
                  <a:pt x="18853" y="15752"/>
                  <a:pt x="19149" y="15652"/>
                </a:cubicBezTo>
                <a:cubicBezTo>
                  <a:pt x="19365" y="15579"/>
                  <a:pt x="19358" y="15508"/>
                  <a:pt x="19348" y="15329"/>
                </a:cubicBezTo>
                <a:cubicBezTo>
                  <a:pt x="19168" y="15315"/>
                  <a:pt x="19032" y="15425"/>
                  <a:pt x="19000" y="15627"/>
                </a:cubicBezTo>
                <a:cubicBezTo>
                  <a:pt x="18969" y="15822"/>
                  <a:pt x="19244" y="15662"/>
                  <a:pt x="19273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26200" y="5340240"/>
            <a:ext cx="44640" cy="285840"/>
          </a:xfrm>
          <a:custGeom>
            <a:avLst/>
            <a:gdLst/>
            <a:ahLst/>
            <a:rect l="l" t="t" r="r" b="b"/>
            <a:pathLst>
              <a:path w="125" h="795">
                <a:moveTo>
                  <a:pt x="19794" y="14833"/>
                </a:moveTo>
                <a:cubicBezTo>
                  <a:pt x="19818" y="15004"/>
                  <a:pt x="19868" y="15196"/>
                  <a:pt x="19893" y="15379"/>
                </a:cubicBezTo>
                <a:cubicBezTo>
                  <a:pt x="19906" y="15477"/>
                  <a:pt x="19918" y="15538"/>
                  <a:pt x="19918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23160" y="3732120"/>
            <a:ext cx="874800" cy="403200"/>
          </a:xfrm>
          <a:custGeom>
            <a:avLst/>
            <a:gdLst/>
            <a:ahLst/>
            <a:rect l="l" t="t" r="r" b="b"/>
            <a:pathLst>
              <a:path w="2432" h="1118">
                <a:moveTo>
                  <a:pt x="23093" y="10368"/>
                </a:moveTo>
                <a:cubicBezTo>
                  <a:pt x="23083" y="10567"/>
                  <a:pt x="23068" y="10764"/>
                  <a:pt x="23068" y="10964"/>
                </a:cubicBezTo>
              </a:path>
              <a:path w="2432" h="1118">
                <a:moveTo>
                  <a:pt x="23490" y="10368"/>
                </a:moveTo>
                <a:cubicBezTo>
                  <a:pt x="23679" y="10425"/>
                  <a:pt x="24009" y="10488"/>
                  <a:pt x="23937" y="10765"/>
                </a:cubicBezTo>
                <a:cubicBezTo>
                  <a:pt x="23880" y="10984"/>
                  <a:pt x="23684" y="10968"/>
                  <a:pt x="23515" y="10988"/>
                </a:cubicBezTo>
                <a:cubicBezTo>
                  <a:pt x="23590" y="10827"/>
                  <a:pt x="23797" y="10715"/>
                  <a:pt x="23986" y="10864"/>
                </a:cubicBezTo>
                <a:cubicBezTo>
                  <a:pt x="24042" y="10909"/>
                  <a:pt x="24036" y="10958"/>
                  <a:pt x="24036" y="11013"/>
                </a:cubicBezTo>
              </a:path>
              <a:path w="2432" h="1118">
                <a:moveTo>
                  <a:pt x="21729" y="11485"/>
                </a:moveTo>
                <a:cubicBezTo>
                  <a:pt x="22517" y="11457"/>
                  <a:pt x="23297" y="11429"/>
                  <a:pt x="24085" y="11460"/>
                </a:cubicBezTo>
                <a:cubicBezTo>
                  <a:pt x="24238" y="11466"/>
                  <a:pt x="24144" y="11460"/>
                  <a:pt x="24110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53080" y="4938840"/>
            <a:ext cx="2008080" cy="982440"/>
          </a:xfrm>
          <a:custGeom>
            <a:avLst/>
            <a:gdLst/>
            <a:ahLst/>
            <a:rect l="l" t="t" r="r" b="b"/>
            <a:pathLst>
              <a:path w="5582" h="2730">
                <a:moveTo>
                  <a:pt x="16644" y="16446"/>
                </a:moveTo>
                <a:cubicBezTo>
                  <a:pt x="17409" y="16409"/>
                  <a:pt x="18121" y="16354"/>
                  <a:pt x="18876" y="16197"/>
                </a:cubicBezTo>
                <a:cubicBezTo>
                  <a:pt x="19776" y="16010"/>
                  <a:pt x="20516" y="15838"/>
                  <a:pt x="21233" y="15280"/>
                </a:cubicBezTo>
                <a:cubicBezTo>
                  <a:pt x="21194" y="14494"/>
                  <a:pt x="20848" y="14131"/>
                  <a:pt x="20042" y="13866"/>
                </a:cubicBezTo>
                <a:cubicBezTo>
                  <a:pt x="19075" y="13547"/>
                  <a:pt x="17681" y="13624"/>
                  <a:pt x="16768" y="14089"/>
                </a:cubicBezTo>
                <a:cubicBezTo>
                  <a:pt x="15842" y="14560"/>
                  <a:pt x="15835" y="14918"/>
                  <a:pt x="15801" y="15776"/>
                </a:cubicBezTo>
                <a:cubicBezTo>
                  <a:pt x="16694" y="16368"/>
                  <a:pt x="17271" y="16306"/>
                  <a:pt x="18355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81360" y="2062080"/>
            <a:ext cx="1936800" cy="1322640"/>
          </a:xfrm>
          <a:custGeom>
            <a:avLst/>
            <a:gdLst/>
            <a:ahLst/>
            <a:rect l="l" t="t" r="r" b="b"/>
            <a:pathLst>
              <a:path w="5383" h="3672">
                <a:moveTo>
                  <a:pt x="13370" y="9128"/>
                </a:moveTo>
                <a:cubicBezTo>
                  <a:pt x="14927" y="9313"/>
                  <a:pt x="16853" y="8876"/>
                  <a:pt x="17884" y="7615"/>
                </a:cubicBezTo>
                <a:cubicBezTo>
                  <a:pt x="18343" y="7054"/>
                  <a:pt x="18023" y="6504"/>
                  <a:pt x="17487" y="6152"/>
                </a:cubicBezTo>
                <a:cubicBezTo>
                  <a:pt x="16447" y="5469"/>
                  <a:pt x="15061" y="5638"/>
                  <a:pt x="14015" y="6201"/>
                </a:cubicBezTo>
                <a:cubicBezTo>
                  <a:pt x="13266" y="6604"/>
                  <a:pt x="12635" y="7331"/>
                  <a:pt x="12725" y="8235"/>
                </a:cubicBezTo>
                <a:cubicBezTo>
                  <a:pt x="12822" y="9205"/>
                  <a:pt x="13934" y="9355"/>
                  <a:pt x="14709" y="9401"/>
                </a:cubicBezTo>
                <a:cubicBezTo>
                  <a:pt x="14932" y="9393"/>
                  <a:pt x="15156" y="9384"/>
                  <a:pt x="15379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01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urse 2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ptember 8, 2011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0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560" y="320004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Operations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operations,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 -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• 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Evaluat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 for “solv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#s and at least one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Grouping Symbols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arentheses) and [bracket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9d97"/>
                </a:solidFill>
                <a:latin typeface="Arial"/>
              </a:rPr>
              <a:t>The order of operations help us guarantee that people from all over the world always get the same answer when solving the same math problem.</a:t>
            </a:r>
            <a:r>
              <a:rPr b="0" lang="en-US" sz="2400" spc="-1" strike="noStrike">
                <a:solidFill>
                  <a:srgbClr val="6d9d9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2554200"/>
            <a:ext cx="214200" cy="223920"/>
          </a:xfrm>
          <a:custGeom>
            <a:avLst/>
            <a:gdLst/>
            <a:ahLst/>
            <a:rect l="l" t="t" r="r" b="b"/>
            <a:pathLst>
              <a:path w="597" h="621">
                <a:moveTo>
                  <a:pt x="1240" y="7466"/>
                </a:moveTo>
                <a:cubicBezTo>
                  <a:pt x="1308" y="7437"/>
                  <a:pt x="1369" y="7444"/>
                  <a:pt x="1439" y="7417"/>
                </a:cubicBezTo>
                <a:cubicBezTo>
                  <a:pt x="1544" y="7377"/>
                  <a:pt x="1625" y="7352"/>
                  <a:pt x="1736" y="7342"/>
                </a:cubicBezTo>
              </a:path>
              <a:path w="597" h="621">
                <a:moveTo>
                  <a:pt x="1439" y="7094"/>
                </a:moveTo>
                <a:cubicBezTo>
                  <a:pt x="1550" y="7113"/>
                  <a:pt x="1677" y="7164"/>
                  <a:pt x="1761" y="7243"/>
                </a:cubicBezTo>
                <a:cubicBezTo>
                  <a:pt x="1761" y="7268"/>
                  <a:pt x="1761" y="7276"/>
                  <a:pt x="1786" y="7268"/>
                </a:cubicBezTo>
                <a:cubicBezTo>
                  <a:pt x="1680" y="7374"/>
                  <a:pt x="1539" y="7459"/>
                  <a:pt x="1439" y="7565"/>
                </a:cubicBezTo>
                <a:cubicBezTo>
                  <a:pt x="1439" y="7573"/>
                  <a:pt x="1439" y="7582"/>
                  <a:pt x="1439" y="7590"/>
                </a:cubicBezTo>
              </a:path>
              <a:path w="597" h="621">
                <a:moveTo>
                  <a:pt x="1414" y="7094"/>
                </a:moveTo>
                <a:cubicBezTo>
                  <a:pt x="1572" y="7134"/>
                  <a:pt x="1665" y="7237"/>
                  <a:pt x="1786" y="7342"/>
                </a:cubicBezTo>
                <a:cubicBezTo>
                  <a:pt x="1794" y="7350"/>
                  <a:pt x="1803" y="7359"/>
                  <a:pt x="1811" y="7367"/>
                </a:cubicBezTo>
                <a:cubicBezTo>
                  <a:pt x="1811" y="7473"/>
                  <a:pt x="1611" y="7582"/>
                  <a:pt x="1538" y="7640"/>
                </a:cubicBezTo>
                <a:cubicBezTo>
                  <a:pt x="1505" y="7665"/>
                  <a:pt x="1472" y="7689"/>
                  <a:pt x="1439" y="7714"/>
                </a:cubicBezTo>
              </a:path>
              <a:path w="597" h="621">
                <a:moveTo>
                  <a:pt x="1215" y="7466"/>
                </a:moveTo>
                <a:cubicBezTo>
                  <a:pt x="1353" y="7413"/>
                  <a:pt x="1561" y="7331"/>
                  <a:pt x="1712" y="7342"/>
                </a:cubicBezTo>
                <a:cubicBezTo>
                  <a:pt x="1689" y="7365"/>
                  <a:pt x="1685" y="7373"/>
                  <a:pt x="1662" y="7367"/>
                </a:cubicBezTo>
                <a:cubicBezTo>
                  <a:pt x="1566" y="7384"/>
                  <a:pt x="1283" y="7419"/>
                  <a:pt x="1290" y="7417"/>
                </a:cubicBezTo>
                <a:cubicBezTo>
                  <a:pt x="1405" y="7388"/>
                  <a:pt x="1619" y="7333"/>
                  <a:pt x="1687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4120" y="3125880"/>
            <a:ext cx="241200" cy="115920"/>
          </a:xfrm>
          <a:custGeom>
            <a:avLst/>
            <a:gdLst/>
            <a:ahLst/>
            <a:rect l="l" t="t" r="r" b="b"/>
            <a:pathLst>
              <a:path w="670" h="323">
                <a:moveTo>
                  <a:pt x="1215" y="8806"/>
                </a:moveTo>
                <a:cubicBezTo>
                  <a:pt x="1335" y="8806"/>
                  <a:pt x="1457" y="8805"/>
                  <a:pt x="1563" y="8830"/>
                </a:cubicBezTo>
                <a:cubicBezTo>
                  <a:pt x="1588" y="8830"/>
                  <a:pt x="1596" y="8830"/>
                  <a:pt x="1612" y="8830"/>
                </a:cubicBezTo>
              </a:path>
              <a:path w="670" h="323">
                <a:moveTo>
                  <a:pt x="1290" y="8682"/>
                </a:moveTo>
                <a:cubicBezTo>
                  <a:pt x="1414" y="8697"/>
                  <a:pt x="1569" y="8713"/>
                  <a:pt x="1687" y="8756"/>
                </a:cubicBezTo>
                <a:cubicBezTo>
                  <a:pt x="1709" y="8778"/>
                  <a:pt x="1714" y="8787"/>
                  <a:pt x="1736" y="8781"/>
                </a:cubicBezTo>
                <a:cubicBezTo>
                  <a:pt x="1624" y="8853"/>
                  <a:pt x="1526" y="8959"/>
                  <a:pt x="1414" y="9004"/>
                </a:cubicBezTo>
              </a:path>
              <a:path w="670" h="323">
                <a:moveTo>
                  <a:pt x="1215" y="8905"/>
                </a:moveTo>
                <a:cubicBezTo>
                  <a:pt x="1337" y="8905"/>
                  <a:pt x="1443" y="8883"/>
                  <a:pt x="1563" y="8855"/>
                </a:cubicBezTo>
                <a:cubicBezTo>
                  <a:pt x="1667" y="8831"/>
                  <a:pt x="1725" y="8807"/>
                  <a:pt x="1612" y="8855"/>
                </a:cubicBezTo>
              </a:path>
              <a:path w="670" h="323">
                <a:moveTo>
                  <a:pt x="1067" y="8954"/>
                </a:moveTo>
                <a:cubicBezTo>
                  <a:pt x="1237" y="8943"/>
                  <a:pt x="1422" y="8924"/>
                  <a:pt x="1588" y="8880"/>
                </a:cubicBezTo>
                <a:cubicBezTo>
                  <a:pt x="1604" y="8872"/>
                  <a:pt x="1621" y="8863"/>
                  <a:pt x="1637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7120" y="3510000"/>
            <a:ext cx="330120" cy="204840"/>
          </a:xfrm>
          <a:custGeom>
            <a:avLst/>
            <a:gdLst/>
            <a:ahLst/>
            <a:rect l="l" t="t" r="r" b="b"/>
            <a:pathLst>
              <a:path w="919" h="572">
                <a:moveTo>
                  <a:pt x="1166" y="9847"/>
                </a:moveTo>
                <a:cubicBezTo>
                  <a:pt x="1313" y="9877"/>
                  <a:pt x="1457" y="9860"/>
                  <a:pt x="1612" y="9872"/>
                </a:cubicBezTo>
                <a:cubicBezTo>
                  <a:pt x="1706" y="9879"/>
                  <a:pt x="1772" y="9897"/>
                  <a:pt x="1860" y="9897"/>
                </a:cubicBezTo>
              </a:path>
              <a:path w="919" h="572">
                <a:moveTo>
                  <a:pt x="992" y="10170"/>
                </a:moveTo>
                <a:cubicBezTo>
                  <a:pt x="1193" y="10120"/>
                  <a:pt x="1405" y="10090"/>
                  <a:pt x="1612" y="10071"/>
                </a:cubicBezTo>
                <a:cubicBezTo>
                  <a:pt x="1670" y="10071"/>
                  <a:pt x="1679" y="10071"/>
                  <a:pt x="1712" y="10071"/>
                </a:cubicBezTo>
              </a:path>
              <a:path w="919" h="572">
                <a:moveTo>
                  <a:pt x="1315" y="9748"/>
                </a:moveTo>
                <a:cubicBezTo>
                  <a:pt x="1537" y="9808"/>
                  <a:pt x="1713" y="9897"/>
                  <a:pt x="1910" y="10021"/>
                </a:cubicBezTo>
                <a:cubicBezTo>
                  <a:pt x="1896" y="10062"/>
                  <a:pt x="1604" y="10211"/>
                  <a:pt x="1588" y="10220"/>
                </a:cubicBezTo>
                <a:cubicBezTo>
                  <a:pt x="1495" y="10275"/>
                  <a:pt x="1479" y="10273"/>
                  <a:pt x="1439" y="10319"/>
                </a:cubicBezTo>
              </a:path>
              <a:path w="919" h="572">
                <a:moveTo>
                  <a:pt x="992" y="10071"/>
                </a:moveTo>
                <a:cubicBezTo>
                  <a:pt x="992" y="10033"/>
                  <a:pt x="1022" y="9976"/>
                  <a:pt x="1042" y="9971"/>
                </a:cubicBezTo>
                <a:cubicBezTo>
                  <a:pt x="1217" y="9929"/>
                  <a:pt x="1457" y="9958"/>
                  <a:pt x="1637" y="9947"/>
                </a:cubicBezTo>
                <a:cubicBezTo>
                  <a:pt x="1695" y="9947"/>
                  <a:pt x="1703" y="9947"/>
                  <a:pt x="1736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1760" y="3857760"/>
            <a:ext cx="223560" cy="214200"/>
          </a:xfrm>
          <a:custGeom>
            <a:avLst/>
            <a:gdLst/>
            <a:ahLst/>
            <a:rect l="l" t="t" r="r" b="b"/>
            <a:pathLst>
              <a:path w="621" h="596">
                <a:moveTo>
                  <a:pt x="1116" y="10939"/>
                </a:moveTo>
                <a:cubicBezTo>
                  <a:pt x="1210" y="10939"/>
                  <a:pt x="1290" y="10962"/>
                  <a:pt x="1389" y="10964"/>
                </a:cubicBezTo>
                <a:cubicBezTo>
                  <a:pt x="1505" y="10964"/>
                  <a:pt x="1522" y="10964"/>
                  <a:pt x="1588" y="10964"/>
                </a:cubicBezTo>
              </a:path>
              <a:path w="621" h="596">
                <a:moveTo>
                  <a:pt x="1116" y="11063"/>
                </a:moveTo>
                <a:cubicBezTo>
                  <a:pt x="1281" y="11063"/>
                  <a:pt x="1447" y="11063"/>
                  <a:pt x="1612" y="11063"/>
                </a:cubicBezTo>
              </a:path>
              <a:path w="621" h="596">
                <a:moveTo>
                  <a:pt x="1364" y="10716"/>
                </a:moveTo>
                <a:cubicBezTo>
                  <a:pt x="1423" y="10753"/>
                  <a:pt x="1733" y="10878"/>
                  <a:pt x="1736" y="10939"/>
                </a:cubicBezTo>
                <a:cubicBezTo>
                  <a:pt x="1739" y="11003"/>
                  <a:pt x="1458" y="11230"/>
                  <a:pt x="1414" y="11286"/>
                </a:cubicBezTo>
                <a:cubicBezTo>
                  <a:pt x="1391" y="11309"/>
                  <a:pt x="1383" y="11320"/>
                  <a:pt x="138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 about what’s wrong with the following situation…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9d97"/>
                </a:solidFill>
                <a:latin typeface="Arial"/>
              </a:rPr>
              <a:t>Your uncle takes you and 3 friends to the movies.  Tickets cost $9 each and he agrees to purchase a drink for everyone at $4 each and two large tubs of popcorn at $7 each.  What is the total cost for your un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 x $9 + 4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6 + 4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0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0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2 x $7 = 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s this answer reason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99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41148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4572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105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28600"/>
            <a:ext cx="80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44840" y="4071960"/>
            <a:ext cx="117360" cy="482400"/>
          </a:xfrm>
          <a:custGeom>
            <a:avLst/>
            <a:gdLst/>
            <a:ahLst/>
            <a:rect l="l" t="t" r="r" b="b"/>
            <a:pathLst>
              <a:path w="324" h="1340">
                <a:moveTo>
                  <a:pt x="7367" y="11311"/>
                </a:moveTo>
                <a:cubicBezTo>
                  <a:pt x="7259" y="11581"/>
                  <a:pt x="7112" y="11802"/>
                  <a:pt x="7069" y="12105"/>
                </a:cubicBezTo>
                <a:cubicBezTo>
                  <a:pt x="7032" y="12367"/>
                  <a:pt x="7140" y="12531"/>
                  <a:pt x="7367" y="12650"/>
                </a:cubicBezTo>
                <a:cubicBezTo>
                  <a:pt x="7375" y="12650"/>
                  <a:pt x="7384" y="12650"/>
                  <a:pt x="7392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4027320"/>
            <a:ext cx="90720" cy="490680"/>
          </a:xfrm>
          <a:custGeom>
            <a:avLst/>
            <a:gdLst/>
            <a:ahLst/>
            <a:rect l="l" t="t" r="r" b="b"/>
            <a:pathLst>
              <a:path w="249" h="1365">
                <a:moveTo>
                  <a:pt x="9947" y="11187"/>
                </a:moveTo>
                <a:cubicBezTo>
                  <a:pt x="10026" y="11452"/>
                  <a:pt x="10154" y="11664"/>
                  <a:pt x="10145" y="11956"/>
                </a:cubicBezTo>
                <a:cubicBezTo>
                  <a:pt x="10141" y="12082"/>
                  <a:pt x="10072" y="12409"/>
                  <a:pt x="9971" y="12502"/>
                </a:cubicBezTo>
                <a:cubicBezTo>
                  <a:pt x="9916" y="12552"/>
                  <a:pt x="9914" y="12499"/>
                  <a:pt x="9897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75040" y="4044960"/>
            <a:ext cx="142920" cy="455760"/>
          </a:xfrm>
          <a:custGeom>
            <a:avLst/>
            <a:gdLst/>
            <a:ahLst/>
            <a:rect l="l" t="t" r="r" b="b"/>
            <a:pathLst>
              <a:path w="398" h="1266">
                <a:moveTo>
                  <a:pt x="11063" y="11237"/>
                </a:moveTo>
                <a:cubicBezTo>
                  <a:pt x="10949" y="11479"/>
                  <a:pt x="10795" y="11778"/>
                  <a:pt x="10765" y="12055"/>
                </a:cubicBezTo>
                <a:cubicBezTo>
                  <a:pt x="10736" y="12327"/>
                  <a:pt x="10867" y="12465"/>
                  <a:pt x="11112" y="12502"/>
                </a:cubicBezTo>
                <a:cubicBezTo>
                  <a:pt x="11137" y="12502"/>
                  <a:pt x="11145" y="12502"/>
                  <a:pt x="11162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97280" y="4000680"/>
            <a:ext cx="115920" cy="492120"/>
          </a:xfrm>
          <a:custGeom>
            <a:avLst/>
            <a:gdLst/>
            <a:ahLst/>
            <a:rect l="l" t="t" r="r" b="b"/>
            <a:pathLst>
              <a:path w="324" h="1366">
                <a:moveTo>
                  <a:pt x="13072" y="11137"/>
                </a:moveTo>
                <a:cubicBezTo>
                  <a:pt x="13076" y="11143"/>
                  <a:pt x="13297" y="11513"/>
                  <a:pt x="13320" y="11584"/>
                </a:cubicBezTo>
                <a:cubicBezTo>
                  <a:pt x="13437" y="11953"/>
                  <a:pt x="13299" y="12149"/>
                  <a:pt x="13097" y="12427"/>
                </a:cubicBezTo>
                <a:cubicBezTo>
                  <a:pt x="13077" y="12468"/>
                  <a:pt x="13079" y="12484"/>
                  <a:pt x="13047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10120" y="4000680"/>
            <a:ext cx="125280" cy="482400"/>
          </a:xfrm>
          <a:custGeom>
            <a:avLst/>
            <a:gdLst/>
            <a:ahLst/>
            <a:rect l="l" t="t" r="r" b="b"/>
            <a:pathLst>
              <a:path w="349" h="1341">
                <a:moveTo>
                  <a:pt x="13940" y="11137"/>
                </a:moveTo>
                <a:cubicBezTo>
                  <a:pt x="14008" y="11096"/>
                  <a:pt x="14031" y="11086"/>
                  <a:pt x="14015" y="11212"/>
                </a:cubicBezTo>
                <a:cubicBezTo>
                  <a:pt x="13970" y="11556"/>
                  <a:pt x="13801" y="11988"/>
                  <a:pt x="13965" y="12328"/>
                </a:cubicBezTo>
                <a:cubicBezTo>
                  <a:pt x="14013" y="12427"/>
                  <a:pt x="14168" y="12452"/>
                  <a:pt x="14263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57920" y="4000680"/>
            <a:ext cx="108000" cy="598320"/>
          </a:xfrm>
          <a:custGeom>
            <a:avLst/>
            <a:gdLst/>
            <a:ahLst/>
            <a:rect l="l" t="t" r="r" b="b"/>
            <a:pathLst>
              <a:path w="299" h="1663">
                <a:moveTo>
                  <a:pt x="16421" y="11137"/>
                </a:moveTo>
                <a:cubicBezTo>
                  <a:pt x="16551" y="11137"/>
                  <a:pt x="16565" y="11642"/>
                  <a:pt x="16570" y="11733"/>
                </a:cubicBezTo>
                <a:cubicBezTo>
                  <a:pt x="16589" y="12117"/>
                  <a:pt x="16517" y="12438"/>
                  <a:pt x="16297" y="12750"/>
                </a:cubicBezTo>
                <a:cubicBezTo>
                  <a:pt x="16272" y="12750"/>
                  <a:pt x="16264" y="12750"/>
                  <a:pt x="16272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62760" y="5724360"/>
            <a:ext cx="1331640" cy="588960"/>
          </a:xfrm>
          <a:custGeom>
            <a:avLst/>
            <a:gdLst/>
            <a:ahLst/>
            <a:rect l="l" t="t" r="r" b="b"/>
            <a:pathLst>
              <a:path w="3697" h="1638">
                <a:moveTo>
                  <a:pt x="17884" y="16520"/>
                </a:moveTo>
                <a:cubicBezTo>
                  <a:pt x="17884" y="16679"/>
                  <a:pt x="17913" y="16864"/>
                  <a:pt x="17959" y="17016"/>
                </a:cubicBezTo>
                <a:cubicBezTo>
                  <a:pt x="17999" y="17097"/>
                  <a:pt x="18015" y="17110"/>
                  <a:pt x="18008" y="17165"/>
                </a:cubicBezTo>
              </a:path>
              <a:path w="3697" h="1638">
                <a:moveTo>
                  <a:pt x="18430" y="17190"/>
                </a:moveTo>
                <a:cubicBezTo>
                  <a:pt x="18427" y="17211"/>
                  <a:pt x="18411" y="17590"/>
                  <a:pt x="18380" y="17438"/>
                </a:cubicBezTo>
              </a:path>
              <a:path w="3697" h="1638">
                <a:moveTo>
                  <a:pt x="18579" y="16570"/>
                </a:moveTo>
                <a:cubicBezTo>
                  <a:pt x="18645" y="16728"/>
                  <a:pt x="18670" y="16930"/>
                  <a:pt x="18777" y="17066"/>
                </a:cubicBezTo>
                <a:cubicBezTo>
                  <a:pt x="18777" y="17058"/>
                  <a:pt x="18777" y="17049"/>
                  <a:pt x="18777" y="17041"/>
                </a:cubicBezTo>
              </a:path>
              <a:path w="3697" h="1638">
                <a:moveTo>
                  <a:pt x="19124" y="16470"/>
                </a:moveTo>
                <a:cubicBezTo>
                  <a:pt x="19104" y="16539"/>
                  <a:pt x="19075" y="16612"/>
                  <a:pt x="19174" y="16545"/>
                </a:cubicBezTo>
                <a:cubicBezTo>
                  <a:pt x="19261" y="16479"/>
                  <a:pt x="19279" y="16459"/>
                  <a:pt x="19348" y="16446"/>
                </a:cubicBezTo>
                <a:cubicBezTo>
                  <a:pt x="19356" y="16446"/>
                  <a:pt x="19364" y="16446"/>
                  <a:pt x="19372" y="16446"/>
                </a:cubicBezTo>
                <a:cubicBezTo>
                  <a:pt x="19321" y="16523"/>
                  <a:pt x="19273" y="16564"/>
                  <a:pt x="19199" y="16619"/>
                </a:cubicBezTo>
                <a:cubicBezTo>
                  <a:pt x="19265" y="16703"/>
                  <a:pt x="19461" y="16732"/>
                  <a:pt x="19496" y="16867"/>
                </a:cubicBezTo>
                <a:cubicBezTo>
                  <a:pt x="19544" y="17050"/>
                  <a:pt x="19293" y="17052"/>
                  <a:pt x="19199" y="17041"/>
                </a:cubicBezTo>
                <a:cubicBezTo>
                  <a:pt x="19174" y="17041"/>
                  <a:pt x="19166" y="17041"/>
                  <a:pt x="19174" y="17016"/>
                </a:cubicBezTo>
              </a:path>
              <a:path w="3697" h="1638">
                <a:moveTo>
                  <a:pt x="19670" y="16545"/>
                </a:moveTo>
                <a:cubicBezTo>
                  <a:pt x="19670" y="16630"/>
                  <a:pt x="19686" y="16722"/>
                  <a:pt x="19794" y="16743"/>
                </a:cubicBezTo>
                <a:cubicBezTo>
                  <a:pt x="20060" y="16795"/>
                  <a:pt x="20053" y="16686"/>
                  <a:pt x="20141" y="16495"/>
                </a:cubicBezTo>
              </a:path>
              <a:path w="3697" h="1638">
                <a:moveTo>
                  <a:pt x="20042" y="16222"/>
                </a:moveTo>
                <a:cubicBezTo>
                  <a:pt x="20078" y="16437"/>
                  <a:pt x="20109" y="16650"/>
                  <a:pt x="20117" y="16867"/>
                </a:cubicBezTo>
                <a:cubicBezTo>
                  <a:pt x="20119" y="16920"/>
                  <a:pt x="20136" y="16958"/>
                  <a:pt x="20092" y="16842"/>
                </a:cubicBezTo>
              </a:path>
              <a:path w="3697" h="1638">
                <a:moveTo>
                  <a:pt x="17487" y="16371"/>
                </a:moveTo>
                <a:cubicBezTo>
                  <a:pt x="17427" y="16351"/>
                  <a:pt x="17412" y="16332"/>
                  <a:pt x="17388" y="16371"/>
                </a:cubicBezTo>
                <a:cubicBezTo>
                  <a:pt x="17433" y="16507"/>
                  <a:pt x="17555" y="16547"/>
                  <a:pt x="17636" y="16669"/>
                </a:cubicBezTo>
                <a:cubicBezTo>
                  <a:pt x="17459" y="16763"/>
                  <a:pt x="17445" y="16762"/>
                  <a:pt x="17388" y="16570"/>
                </a:cubicBezTo>
              </a:path>
              <a:path w="3697" h="1638">
                <a:moveTo>
                  <a:pt x="17413" y="16247"/>
                </a:moveTo>
                <a:cubicBezTo>
                  <a:pt x="17425" y="16427"/>
                  <a:pt x="17465" y="16590"/>
                  <a:pt x="17487" y="16768"/>
                </a:cubicBezTo>
              </a:path>
              <a:path w="3697" h="1638">
                <a:moveTo>
                  <a:pt x="17487" y="17438"/>
                </a:moveTo>
                <a:cubicBezTo>
                  <a:pt x="18120" y="17503"/>
                  <a:pt x="18785" y="17588"/>
                  <a:pt x="19422" y="17537"/>
                </a:cubicBezTo>
                <a:cubicBezTo>
                  <a:pt x="19868" y="17501"/>
                  <a:pt x="20345" y="17362"/>
                  <a:pt x="20513" y="16917"/>
                </a:cubicBezTo>
                <a:cubicBezTo>
                  <a:pt x="20620" y="16633"/>
                  <a:pt x="20303" y="16311"/>
                  <a:pt x="20092" y="16173"/>
                </a:cubicBezTo>
                <a:cubicBezTo>
                  <a:pt x="19558" y="15825"/>
                  <a:pt x="18636" y="15818"/>
                  <a:pt x="18033" y="15949"/>
                </a:cubicBezTo>
                <a:cubicBezTo>
                  <a:pt x="17564" y="16050"/>
                  <a:pt x="16731" y="16421"/>
                  <a:pt x="16842" y="17041"/>
                </a:cubicBezTo>
                <a:cubicBezTo>
                  <a:pt x="16930" y="17534"/>
                  <a:pt x="17690" y="17375"/>
                  <a:pt x="17983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is is why we need an order of operations, which is: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First, solve expressions insid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grouping symbol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(  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Evaluat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power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like a</a:t>
            </a:r>
            <a:r>
              <a:rPr b="1" lang="en-US" sz="2300" spc="-1" strike="noStrike" baseline="30000">
                <a:solidFill>
                  <a:srgbClr val="3399ff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Then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multiply and divide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99ccff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Last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add and subtract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99ccff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04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9960" y="2973240"/>
            <a:ext cx="374760" cy="23364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1885" y="8558"/>
                </a:moveTo>
                <a:cubicBezTo>
                  <a:pt x="1860" y="8483"/>
                  <a:pt x="2275" y="8557"/>
                  <a:pt x="2307" y="8558"/>
                </a:cubicBezTo>
                <a:cubicBezTo>
                  <a:pt x="2454" y="8563"/>
                  <a:pt x="2605" y="8558"/>
                  <a:pt x="2753" y="8558"/>
                </a:cubicBezTo>
              </a:path>
              <a:path w="1043" h="646">
                <a:moveTo>
                  <a:pt x="2282" y="8260"/>
                </a:moveTo>
                <a:cubicBezTo>
                  <a:pt x="2443" y="8306"/>
                  <a:pt x="2620" y="8369"/>
                  <a:pt x="2778" y="8434"/>
                </a:cubicBezTo>
                <a:cubicBezTo>
                  <a:pt x="2851" y="8470"/>
                  <a:pt x="2856" y="8487"/>
                  <a:pt x="2902" y="8483"/>
                </a:cubicBezTo>
                <a:cubicBezTo>
                  <a:pt x="2838" y="8629"/>
                  <a:pt x="2633" y="8757"/>
                  <a:pt x="2505" y="8880"/>
                </a:cubicBezTo>
                <a:cubicBezTo>
                  <a:pt x="2497" y="8888"/>
                  <a:pt x="2488" y="8897"/>
                  <a:pt x="2480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9960" y="4010040"/>
            <a:ext cx="500040" cy="295200"/>
          </a:xfrm>
          <a:custGeom>
            <a:avLst/>
            <a:gdLst/>
            <a:ahLst/>
            <a:rect l="l" t="t" r="r" b="b"/>
            <a:pathLst>
              <a:path w="1390" h="820">
                <a:moveTo>
                  <a:pt x="1860" y="11460"/>
                </a:moveTo>
                <a:cubicBezTo>
                  <a:pt x="2065" y="11414"/>
                  <a:pt x="2402" y="11460"/>
                  <a:pt x="2629" y="11460"/>
                </a:cubicBezTo>
                <a:cubicBezTo>
                  <a:pt x="2761" y="11460"/>
                  <a:pt x="2894" y="11460"/>
                  <a:pt x="3026" y="11460"/>
                </a:cubicBezTo>
              </a:path>
              <a:path w="1390" h="820">
                <a:moveTo>
                  <a:pt x="2456" y="11137"/>
                </a:moveTo>
                <a:cubicBezTo>
                  <a:pt x="2688" y="11206"/>
                  <a:pt x="2928" y="11260"/>
                  <a:pt x="3150" y="11361"/>
                </a:cubicBezTo>
                <a:cubicBezTo>
                  <a:pt x="3207" y="11398"/>
                  <a:pt x="3210" y="11414"/>
                  <a:pt x="3249" y="11410"/>
                </a:cubicBezTo>
                <a:cubicBezTo>
                  <a:pt x="3187" y="11536"/>
                  <a:pt x="2960" y="11740"/>
                  <a:pt x="2853" y="11857"/>
                </a:cubicBezTo>
                <a:cubicBezTo>
                  <a:pt x="2807" y="11907"/>
                  <a:pt x="2790" y="11944"/>
                  <a:pt x="2753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8320" y="4759200"/>
            <a:ext cx="633600" cy="384480"/>
          </a:xfrm>
          <a:custGeom>
            <a:avLst/>
            <a:gdLst/>
            <a:ahLst/>
            <a:rect l="l" t="t" r="r" b="b"/>
            <a:pathLst>
              <a:path w="1762" h="1068">
                <a:moveTo>
                  <a:pt x="1662" y="13543"/>
                </a:moveTo>
                <a:cubicBezTo>
                  <a:pt x="2033" y="13618"/>
                  <a:pt x="2371" y="13637"/>
                  <a:pt x="2753" y="13643"/>
                </a:cubicBezTo>
                <a:cubicBezTo>
                  <a:pt x="2877" y="13645"/>
                  <a:pt x="3200" y="13643"/>
                  <a:pt x="3076" y="13643"/>
                </a:cubicBezTo>
              </a:path>
              <a:path w="1762" h="1068">
                <a:moveTo>
                  <a:pt x="2307" y="13221"/>
                </a:moveTo>
                <a:cubicBezTo>
                  <a:pt x="2668" y="13376"/>
                  <a:pt x="3083" y="13482"/>
                  <a:pt x="3423" y="13667"/>
                </a:cubicBezTo>
                <a:cubicBezTo>
                  <a:pt x="3208" y="13831"/>
                  <a:pt x="2964" y="14024"/>
                  <a:pt x="2753" y="14213"/>
                </a:cubicBezTo>
                <a:cubicBezTo>
                  <a:pt x="2679" y="14288"/>
                  <a:pt x="2654" y="14313"/>
                  <a:pt x="2753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9960" y="5634000"/>
            <a:ext cx="500040" cy="260280"/>
          </a:xfrm>
          <a:custGeom>
            <a:avLst/>
            <a:gdLst/>
            <a:ahLst/>
            <a:rect l="l" t="t" r="r" b="b"/>
            <a:pathLst>
              <a:path w="1390" h="720">
                <a:moveTo>
                  <a:pt x="1860" y="15999"/>
                </a:moveTo>
                <a:cubicBezTo>
                  <a:pt x="2212" y="16009"/>
                  <a:pt x="2577" y="16081"/>
                  <a:pt x="2927" y="16073"/>
                </a:cubicBezTo>
                <a:cubicBezTo>
                  <a:pt x="2950" y="16051"/>
                  <a:pt x="2955" y="16043"/>
                  <a:pt x="2977" y="16049"/>
                </a:cubicBezTo>
              </a:path>
              <a:path w="1390" h="720">
                <a:moveTo>
                  <a:pt x="2431" y="15652"/>
                </a:moveTo>
                <a:cubicBezTo>
                  <a:pt x="2699" y="15771"/>
                  <a:pt x="2972" y="15875"/>
                  <a:pt x="3249" y="15974"/>
                </a:cubicBezTo>
                <a:cubicBezTo>
                  <a:pt x="3118" y="16129"/>
                  <a:pt x="2880" y="16202"/>
                  <a:pt x="2704" y="16321"/>
                </a:cubicBezTo>
                <a:cubicBezTo>
                  <a:pt x="2665" y="16360"/>
                  <a:pt x="2663" y="16377"/>
                  <a:pt x="2629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10360" y="2714760"/>
            <a:ext cx="293760" cy="1081080"/>
          </a:xfrm>
          <a:custGeom>
            <a:avLst/>
            <a:gdLst/>
            <a:ahLst/>
            <a:rect l="l" t="t" r="r" b="b"/>
            <a:pathLst>
              <a:path w="819" h="3002">
                <a:moveTo>
                  <a:pt x="22250" y="8012"/>
                </a:moveTo>
                <a:cubicBezTo>
                  <a:pt x="22324" y="8250"/>
                  <a:pt x="22393" y="8510"/>
                  <a:pt x="22448" y="8756"/>
                </a:cubicBezTo>
                <a:cubicBezTo>
                  <a:pt x="22468" y="8846"/>
                  <a:pt x="22448" y="8791"/>
                  <a:pt x="22448" y="8756"/>
                </a:cubicBezTo>
                <a:cubicBezTo>
                  <a:pt x="22355" y="8454"/>
                  <a:pt x="22207" y="8089"/>
                  <a:pt x="22275" y="7764"/>
                </a:cubicBezTo>
                <a:cubicBezTo>
                  <a:pt x="22346" y="7425"/>
                  <a:pt x="22737" y="7533"/>
                  <a:pt x="22870" y="7764"/>
                </a:cubicBezTo>
                <a:cubicBezTo>
                  <a:pt x="23052" y="8081"/>
                  <a:pt x="22731" y="8314"/>
                  <a:pt x="22448" y="8334"/>
                </a:cubicBezTo>
                <a:cubicBezTo>
                  <a:pt x="22426" y="8312"/>
                  <a:pt x="22417" y="8301"/>
                  <a:pt x="22423" y="8334"/>
                </a:cubicBezTo>
              </a:path>
              <a:path w="819" h="3002">
                <a:moveTo>
                  <a:pt x="22399" y="9748"/>
                </a:moveTo>
                <a:cubicBezTo>
                  <a:pt x="22485" y="10015"/>
                  <a:pt x="22485" y="10213"/>
                  <a:pt x="22473" y="10492"/>
                </a:cubicBezTo>
                <a:cubicBezTo>
                  <a:pt x="22666" y="10553"/>
                  <a:pt x="22876" y="10488"/>
                  <a:pt x="23068" y="10393"/>
                </a:cubicBezTo>
                <a:cubicBezTo>
                  <a:pt x="23052" y="10393"/>
                  <a:pt x="23035" y="10393"/>
                  <a:pt x="23019" y="10393"/>
                </a:cubicBezTo>
              </a:path>
              <a:path w="819" h="3002">
                <a:moveTo>
                  <a:pt x="22399" y="10170"/>
                </a:moveTo>
                <a:cubicBezTo>
                  <a:pt x="22529" y="10137"/>
                  <a:pt x="22878" y="10117"/>
                  <a:pt x="22969" y="10021"/>
                </a:cubicBezTo>
                <a:cubicBezTo>
                  <a:pt x="22969" y="9996"/>
                  <a:pt x="22969" y="9972"/>
                  <a:pt x="22969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17880" y="3830760"/>
            <a:ext cx="54000" cy="161640"/>
          </a:xfrm>
          <a:custGeom>
            <a:avLst/>
            <a:gdLst/>
            <a:ahLst/>
            <a:rect l="l" t="t" r="r" b="b"/>
            <a:pathLst>
              <a:path w="150" h="448">
                <a:moveTo>
                  <a:pt x="8533" y="10641"/>
                </a:moveTo>
                <a:cubicBezTo>
                  <a:pt x="8465" y="10834"/>
                  <a:pt x="8284" y="11065"/>
                  <a:pt x="8458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1760" y="3705120"/>
            <a:ext cx="1679400" cy="295560"/>
          </a:xfrm>
          <a:custGeom>
            <a:avLst/>
            <a:gdLst/>
            <a:ahLst/>
            <a:rect l="l" t="t" r="r" b="b"/>
            <a:pathLst>
              <a:path w="4664" h="819">
                <a:moveTo>
                  <a:pt x="7615" y="10765"/>
                </a:moveTo>
                <a:cubicBezTo>
                  <a:pt x="7760" y="10757"/>
                  <a:pt x="7874" y="10735"/>
                  <a:pt x="8012" y="10691"/>
                </a:cubicBezTo>
                <a:cubicBezTo>
                  <a:pt x="8091" y="10665"/>
                  <a:pt x="7920" y="10655"/>
                  <a:pt x="7838" y="10666"/>
                </a:cubicBezTo>
                <a:cubicBezTo>
                  <a:pt x="7637" y="10693"/>
                  <a:pt x="7630" y="10959"/>
                  <a:pt x="7789" y="11063"/>
                </a:cubicBezTo>
                <a:cubicBezTo>
                  <a:pt x="8095" y="11264"/>
                  <a:pt x="8300" y="10894"/>
                  <a:pt x="8409" y="10691"/>
                </a:cubicBezTo>
              </a:path>
              <a:path w="4664" h="819">
                <a:moveTo>
                  <a:pt x="8285" y="10542"/>
                </a:moveTo>
                <a:cubicBezTo>
                  <a:pt x="8316" y="10583"/>
                  <a:pt x="8618" y="10974"/>
                  <a:pt x="8682" y="10889"/>
                </a:cubicBezTo>
                <a:cubicBezTo>
                  <a:pt x="8690" y="10848"/>
                  <a:pt x="8698" y="10806"/>
                  <a:pt x="8706" y="10765"/>
                </a:cubicBezTo>
              </a:path>
              <a:path w="4664" h="819">
                <a:moveTo>
                  <a:pt x="8880" y="10691"/>
                </a:moveTo>
                <a:cubicBezTo>
                  <a:pt x="8929" y="10855"/>
                  <a:pt x="8966" y="10967"/>
                  <a:pt x="9054" y="11112"/>
                </a:cubicBezTo>
                <a:cubicBezTo>
                  <a:pt x="8870" y="10876"/>
                  <a:pt x="8882" y="10697"/>
                  <a:pt x="8930" y="10418"/>
                </a:cubicBezTo>
                <a:cubicBezTo>
                  <a:pt x="9157" y="10442"/>
                  <a:pt x="9515" y="10652"/>
                  <a:pt x="9103" y="10840"/>
                </a:cubicBezTo>
                <a:cubicBezTo>
                  <a:pt x="8938" y="10860"/>
                  <a:pt x="8872" y="10901"/>
                  <a:pt x="8905" y="10765"/>
                </a:cubicBezTo>
              </a:path>
              <a:path w="4664" h="819">
                <a:moveTo>
                  <a:pt x="9475" y="10517"/>
                </a:moveTo>
                <a:cubicBezTo>
                  <a:pt x="9419" y="10658"/>
                  <a:pt x="9427" y="10695"/>
                  <a:pt x="9475" y="10840"/>
                </a:cubicBezTo>
                <a:cubicBezTo>
                  <a:pt x="9541" y="10824"/>
                  <a:pt x="9961" y="10580"/>
                  <a:pt x="9699" y="10492"/>
                </a:cubicBezTo>
                <a:cubicBezTo>
                  <a:pt x="9608" y="10510"/>
                  <a:pt x="9567" y="10485"/>
                  <a:pt x="9575" y="10542"/>
                </a:cubicBezTo>
              </a:path>
              <a:path w="4664" h="819">
                <a:moveTo>
                  <a:pt x="9847" y="10517"/>
                </a:moveTo>
                <a:cubicBezTo>
                  <a:pt x="9920" y="10658"/>
                  <a:pt x="9971" y="10735"/>
                  <a:pt x="9996" y="10889"/>
                </a:cubicBezTo>
                <a:cubicBezTo>
                  <a:pt x="9988" y="10798"/>
                  <a:pt x="9922" y="10558"/>
                  <a:pt x="10096" y="10567"/>
                </a:cubicBezTo>
                <a:cubicBezTo>
                  <a:pt x="10286" y="10577"/>
                  <a:pt x="10354" y="10767"/>
                  <a:pt x="10443" y="10889"/>
                </a:cubicBezTo>
              </a:path>
              <a:path w="4664" h="819">
                <a:moveTo>
                  <a:pt x="10517" y="10716"/>
                </a:moveTo>
                <a:cubicBezTo>
                  <a:pt x="10615" y="10653"/>
                  <a:pt x="10689" y="10601"/>
                  <a:pt x="10765" y="10517"/>
                </a:cubicBezTo>
                <a:cubicBezTo>
                  <a:pt x="10669" y="10531"/>
                  <a:pt x="10506" y="10739"/>
                  <a:pt x="10691" y="10840"/>
                </a:cubicBezTo>
                <a:cubicBezTo>
                  <a:pt x="10871" y="10938"/>
                  <a:pt x="10974" y="10540"/>
                  <a:pt x="10988" y="10641"/>
                </a:cubicBezTo>
                <a:cubicBezTo>
                  <a:pt x="10988" y="10732"/>
                  <a:pt x="10988" y="10757"/>
                  <a:pt x="10988" y="10815"/>
                </a:cubicBezTo>
                <a:cubicBezTo>
                  <a:pt x="10966" y="10678"/>
                  <a:pt x="10964" y="10617"/>
                  <a:pt x="11013" y="10492"/>
                </a:cubicBezTo>
                <a:cubicBezTo>
                  <a:pt x="11141" y="10613"/>
                  <a:pt x="11197" y="11049"/>
                  <a:pt x="11311" y="10914"/>
                </a:cubicBezTo>
                <a:cubicBezTo>
                  <a:pt x="11311" y="10889"/>
                  <a:pt x="11311" y="10865"/>
                  <a:pt x="11311" y="10840"/>
                </a:cubicBezTo>
              </a:path>
              <a:path w="4664" h="819">
                <a:moveTo>
                  <a:pt x="11311" y="10294"/>
                </a:moveTo>
                <a:cubicBezTo>
                  <a:pt x="11358" y="10459"/>
                  <a:pt x="11455" y="10734"/>
                  <a:pt x="11584" y="10864"/>
                </a:cubicBezTo>
                <a:cubicBezTo>
                  <a:pt x="11584" y="10848"/>
                  <a:pt x="11584" y="10831"/>
                  <a:pt x="11584" y="10815"/>
                </a:cubicBezTo>
              </a:path>
              <a:path w="4664" h="819">
                <a:moveTo>
                  <a:pt x="11237" y="10492"/>
                </a:moveTo>
                <a:cubicBezTo>
                  <a:pt x="11489" y="10505"/>
                  <a:pt x="11713" y="10428"/>
                  <a:pt x="11956" y="10344"/>
                </a:cubicBezTo>
                <a:cubicBezTo>
                  <a:pt x="11933" y="10435"/>
                  <a:pt x="11812" y="10453"/>
                  <a:pt x="11757" y="10517"/>
                </a:cubicBezTo>
                <a:cubicBezTo>
                  <a:pt x="11638" y="10656"/>
                  <a:pt x="12115" y="10509"/>
                  <a:pt x="12278" y="10592"/>
                </a:cubicBezTo>
                <a:cubicBezTo>
                  <a:pt x="12122" y="10809"/>
                  <a:pt x="12095" y="10767"/>
                  <a:pt x="11807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16920" y="3438360"/>
            <a:ext cx="268200" cy="1544760"/>
          </a:xfrm>
          <a:custGeom>
            <a:avLst/>
            <a:gdLst/>
            <a:ahLst/>
            <a:rect l="l" t="t" r="r" b="b"/>
            <a:pathLst>
              <a:path w="746" h="4292">
                <a:moveTo>
                  <a:pt x="22547" y="9699"/>
                </a:moveTo>
                <a:cubicBezTo>
                  <a:pt x="22730" y="9653"/>
                  <a:pt x="23265" y="9483"/>
                  <a:pt x="23217" y="9575"/>
                </a:cubicBezTo>
              </a:path>
              <a:path w="746" h="4292">
                <a:moveTo>
                  <a:pt x="22572" y="13295"/>
                </a:moveTo>
                <a:cubicBezTo>
                  <a:pt x="22580" y="13478"/>
                  <a:pt x="22607" y="13659"/>
                  <a:pt x="22622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01000" y="4446720"/>
            <a:ext cx="349200" cy="223560"/>
          </a:xfrm>
          <a:custGeom>
            <a:avLst/>
            <a:gdLst/>
            <a:ahLst/>
            <a:rect l="l" t="t" r="r" b="b"/>
            <a:pathLst>
              <a:path w="968" h="621">
                <a:moveTo>
                  <a:pt x="22225" y="12576"/>
                </a:moveTo>
                <a:cubicBezTo>
                  <a:pt x="22255" y="12709"/>
                  <a:pt x="22289" y="12841"/>
                  <a:pt x="22324" y="12973"/>
                </a:cubicBezTo>
                <a:cubicBezTo>
                  <a:pt x="22324" y="12821"/>
                  <a:pt x="22278" y="12707"/>
                  <a:pt x="22324" y="12551"/>
                </a:cubicBezTo>
                <a:cubicBezTo>
                  <a:pt x="22341" y="12535"/>
                  <a:pt x="22357" y="12518"/>
                  <a:pt x="22374" y="12502"/>
                </a:cubicBezTo>
                <a:cubicBezTo>
                  <a:pt x="22527" y="12624"/>
                  <a:pt x="22644" y="12749"/>
                  <a:pt x="22771" y="12898"/>
                </a:cubicBezTo>
                <a:cubicBezTo>
                  <a:pt x="22726" y="12736"/>
                  <a:pt x="22719" y="12501"/>
                  <a:pt x="22870" y="12378"/>
                </a:cubicBezTo>
                <a:cubicBezTo>
                  <a:pt x="22911" y="12370"/>
                  <a:pt x="22953" y="12361"/>
                  <a:pt x="22994" y="12353"/>
                </a:cubicBezTo>
                <a:cubicBezTo>
                  <a:pt x="23118" y="12542"/>
                  <a:pt x="23175" y="12681"/>
                  <a:pt x="23192" y="12923"/>
                </a:cubicBezTo>
                <a:cubicBezTo>
                  <a:pt x="23192" y="12931"/>
                  <a:pt x="23192" y="12940"/>
                  <a:pt x="23192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91640" y="4749840"/>
            <a:ext cx="366480" cy="295200"/>
          </a:xfrm>
          <a:custGeom>
            <a:avLst/>
            <a:gdLst/>
            <a:ahLst/>
            <a:rect l="l" t="t" r="r" b="b"/>
            <a:pathLst>
              <a:path w="1018" h="820">
                <a:moveTo>
                  <a:pt x="22200" y="13196"/>
                </a:moveTo>
                <a:cubicBezTo>
                  <a:pt x="22424" y="13228"/>
                  <a:pt x="23326" y="13266"/>
                  <a:pt x="23217" y="13692"/>
                </a:cubicBezTo>
                <a:cubicBezTo>
                  <a:pt x="23164" y="13902"/>
                  <a:pt x="22777" y="14054"/>
                  <a:pt x="22671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05840" y="5303880"/>
            <a:ext cx="233280" cy="482400"/>
          </a:xfrm>
          <a:custGeom>
            <a:avLst/>
            <a:gdLst/>
            <a:ahLst/>
            <a:rect l="l" t="t" r="r" b="b"/>
            <a:pathLst>
              <a:path w="645" h="1340">
                <a:moveTo>
                  <a:pt x="22796" y="14883"/>
                </a:moveTo>
                <a:cubicBezTo>
                  <a:pt x="22818" y="15009"/>
                  <a:pt x="22820" y="15126"/>
                  <a:pt x="22820" y="15255"/>
                </a:cubicBezTo>
                <a:cubicBezTo>
                  <a:pt x="22803" y="15081"/>
                  <a:pt x="22787" y="14988"/>
                  <a:pt x="22870" y="14833"/>
                </a:cubicBezTo>
                <a:cubicBezTo>
                  <a:pt x="22937" y="14708"/>
                  <a:pt x="23111" y="14704"/>
                  <a:pt x="23192" y="14833"/>
                </a:cubicBezTo>
                <a:cubicBezTo>
                  <a:pt x="23276" y="14967"/>
                  <a:pt x="23267" y="15153"/>
                  <a:pt x="23267" y="15304"/>
                </a:cubicBezTo>
              </a:path>
              <a:path w="645" h="1340">
                <a:moveTo>
                  <a:pt x="22820" y="15106"/>
                </a:moveTo>
                <a:cubicBezTo>
                  <a:pt x="22948" y="15106"/>
                  <a:pt x="23268" y="15058"/>
                  <a:pt x="23341" y="15131"/>
                </a:cubicBezTo>
              </a:path>
              <a:path w="645" h="1340">
                <a:moveTo>
                  <a:pt x="23168" y="15602"/>
                </a:moveTo>
                <a:cubicBezTo>
                  <a:pt x="23159" y="15576"/>
                  <a:pt x="23086" y="15550"/>
                  <a:pt x="23044" y="15553"/>
                </a:cubicBezTo>
                <a:cubicBezTo>
                  <a:pt x="22966" y="15572"/>
                  <a:pt x="22949" y="15563"/>
                  <a:pt x="22920" y="15602"/>
                </a:cubicBezTo>
                <a:cubicBezTo>
                  <a:pt x="22937" y="15705"/>
                  <a:pt x="22981" y="15780"/>
                  <a:pt x="23093" y="15801"/>
                </a:cubicBezTo>
                <a:cubicBezTo>
                  <a:pt x="23179" y="15817"/>
                  <a:pt x="23360" y="15751"/>
                  <a:pt x="23416" y="15850"/>
                </a:cubicBezTo>
                <a:cubicBezTo>
                  <a:pt x="23491" y="15982"/>
                  <a:pt x="23353" y="16059"/>
                  <a:pt x="23242" y="16073"/>
                </a:cubicBezTo>
                <a:cubicBezTo>
                  <a:pt x="23132" y="16087"/>
                  <a:pt x="23068" y="16049"/>
                  <a:pt x="22969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9d97"/>
                </a:solidFill>
                <a:latin typeface="Arial"/>
              </a:rPr>
              <a:t>Evaluate the following exp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xample 1: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Example 2: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Example 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 (11 – 5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 + 7 x 2 -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20 – (3 x 5) +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xample 4: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Example 5: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Example 6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x 1 + 4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1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 2 + 3 x 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1"/>
            <a:endCxn id="275" idx="1"/>
          </p:cNvCxnSpPr>
          <p:nvPr/>
        </p:nvCxnSpPr>
        <p:spPr>
          <a:xfrm>
            <a:off x="837720" y="38858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aphicFrame>
        <p:nvGraphicFramePr>
          <p:cNvPr id="277" name=""/>
          <p:cNvGraphicFramePr/>
          <p:nvPr/>
        </p:nvGraphicFramePr>
        <p:xfrm>
          <a:off x="3886200" y="4572000"/>
          <a:ext cx="8953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8953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3520" y="30492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30840" y="4929120"/>
            <a:ext cx="125280" cy="81000"/>
          </a:xfrm>
          <a:custGeom>
            <a:avLst/>
            <a:gdLst/>
            <a:ahLst/>
            <a:rect l="l" t="t" r="r" b="b"/>
            <a:pathLst>
              <a:path w="349" h="224">
                <a:moveTo>
                  <a:pt x="13419" y="13692"/>
                </a:moveTo>
                <a:cubicBezTo>
                  <a:pt x="13518" y="13692"/>
                  <a:pt x="13618" y="13692"/>
                  <a:pt x="13717" y="13692"/>
                </a:cubicBezTo>
              </a:path>
              <a:path w="349" h="224">
                <a:moveTo>
                  <a:pt x="13519" y="13891"/>
                </a:moveTo>
                <a:cubicBezTo>
                  <a:pt x="13607" y="13907"/>
                  <a:pt x="13678" y="13915"/>
                  <a:pt x="13767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4768920"/>
            <a:ext cx="544680" cy="125280"/>
          </a:xfrm>
          <a:custGeom>
            <a:avLst/>
            <a:gdLst/>
            <a:ahLst/>
            <a:rect l="l" t="t" r="r" b="b"/>
            <a:pathLst>
              <a:path w="1514" h="348">
                <a:moveTo>
                  <a:pt x="3597" y="13246"/>
                </a:moveTo>
                <a:cubicBezTo>
                  <a:pt x="3704" y="13359"/>
                  <a:pt x="3802" y="13467"/>
                  <a:pt x="3894" y="13593"/>
                </a:cubicBezTo>
              </a:path>
              <a:path w="1514" h="348">
                <a:moveTo>
                  <a:pt x="4762" y="13419"/>
                </a:moveTo>
                <a:cubicBezTo>
                  <a:pt x="4883" y="13369"/>
                  <a:pt x="4988" y="13336"/>
                  <a:pt x="5110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00080" y="4643280"/>
            <a:ext cx="1206720" cy="312840"/>
          </a:xfrm>
          <a:custGeom>
            <a:avLst/>
            <a:gdLst/>
            <a:ahLst/>
            <a:rect l="l" t="t" r="r" b="b"/>
            <a:pathLst>
              <a:path w="3350" h="870">
                <a:moveTo>
                  <a:pt x="2778" y="13171"/>
                </a:moveTo>
                <a:cubicBezTo>
                  <a:pt x="2948" y="13171"/>
                  <a:pt x="3107" y="13167"/>
                  <a:pt x="3274" y="13146"/>
                </a:cubicBezTo>
                <a:cubicBezTo>
                  <a:pt x="3259" y="13346"/>
                  <a:pt x="3191" y="13568"/>
                  <a:pt x="3200" y="13767"/>
                </a:cubicBezTo>
                <a:cubicBezTo>
                  <a:pt x="3208" y="13759"/>
                  <a:pt x="3217" y="13750"/>
                  <a:pt x="3225" y="13742"/>
                </a:cubicBezTo>
              </a:path>
              <a:path w="3350" h="870">
                <a:moveTo>
                  <a:pt x="3894" y="13171"/>
                </a:moveTo>
                <a:cubicBezTo>
                  <a:pt x="3831" y="13360"/>
                  <a:pt x="3759" y="13548"/>
                  <a:pt x="3721" y="13742"/>
                </a:cubicBezTo>
              </a:path>
              <a:path w="3350" h="870">
                <a:moveTo>
                  <a:pt x="4266" y="13097"/>
                </a:moveTo>
                <a:cubicBezTo>
                  <a:pt x="4266" y="13306"/>
                  <a:pt x="4293" y="13509"/>
                  <a:pt x="4316" y="13717"/>
                </a:cubicBezTo>
                <a:cubicBezTo>
                  <a:pt x="4316" y="13742"/>
                  <a:pt x="4316" y="13750"/>
                  <a:pt x="4316" y="13717"/>
                </a:cubicBezTo>
              </a:path>
              <a:path w="3350" h="870">
                <a:moveTo>
                  <a:pt x="4787" y="13072"/>
                </a:moveTo>
                <a:cubicBezTo>
                  <a:pt x="4817" y="13252"/>
                  <a:pt x="4826" y="13439"/>
                  <a:pt x="4862" y="13618"/>
                </a:cubicBezTo>
                <a:cubicBezTo>
                  <a:pt x="4862" y="13610"/>
                  <a:pt x="4862" y="13601"/>
                  <a:pt x="4862" y="13593"/>
                </a:cubicBezTo>
              </a:path>
              <a:path w="3350" h="870">
                <a:moveTo>
                  <a:pt x="5283" y="13022"/>
                </a:moveTo>
                <a:cubicBezTo>
                  <a:pt x="5335" y="13221"/>
                  <a:pt x="5338" y="13425"/>
                  <a:pt x="5383" y="13618"/>
                </a:cubicBezTo>
              </a:path>
              <a:path w="3350" h="870">
                <a:moveTo>
                  <a:pt x="5655" y="12898"/>
                </a:moveTo>
                <a:cubicBezTo>
                  <a:pt x="5680" y="13050"/>
                  <a:pt x="5643" y="13186"/>
                  <a:pt x="5655" y="13345"/>
                </a:cubicBezTo>
                <a:cubicBezTo>
                  <a:pt x="5670" y="13553"/>
                  <a:pt x="5883" y="13628"/>
                  <a:pt x="6052" y="13494"/>
                </a:cubicBezTo>
                <a:cubicBezTo>
                  <a:pt x="6115" y="13390"/>
                  <a:pt x="6140" y="13372"/>
                  <a:pt x="6127" y="13295"/>
                </a:cubicBezTo>
                <a:cubicBezTo>
                  <a:pt x="5956" y="13283"/>
                  <a:pt x="5940" y="13335"/>
                  <a:pt x="5879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37120" y="4643280"/>
            <a:ext cx="1071720" cy="669960"/>
          </a:xfrm>
          <a:custGeom>
            <a:avLst/>
            <a:gdLst/>
            <a:ahLst/>
            <a:rect l="l" t="t" r="r" b="b"/>
            <a:pathLst>
              <a:path w="2977" h="1862">
                <a:moveTo>
                  <a:pt x="14238" y="13022"/>
                </a:moveTo>
                <a:cubicBezTo>
                  <a:pt x="14293" y="13186"/>
                  <a:pt x="14283" y="13409"/>
                  <a:pt x="14288" y="13593"/>
                </a:cubicBezTo>
                <a:cubicBezTo>
                  <a:pt x="14288" y="13635"/>
                  <a:pt x="14288" y="13660"/>
                  <a:pt x="14288" y="13618"/>
                </a:cubicBezTo>
              </a:path>
              <a:path w="2977" h="1862">
                <a:moveTo>
                  <a:pt x="14808" y="12898"/>
                </a:moveTo>
                <a:cubicBezTo>
                  <a:pt x="14722" y="12908"/>
                  <a:pt x="14600" y="12891"/>
                  <a:pt x="14585" y="12998"/>
                </a:cubicBezTo>
                <a:cubicBezTo>
                  <a:pt x="14572" y="13097"/>
                  <a:pt x="14555" y="13196"/>
                  <a:pt x="14536" y="13295"/>
                </a:cubicBezTo>
                <a:cubicBezTo>
                  <a:pt x="14636" y="13262"/>
                  <a:pt x="14713" y="13169"/>
                  <a:pt x="14833" y="13196"/>
                </a:cubicBezTo>
                <a:cubicBezTo>
                  <a:pt x="15039" y="13242"/>
                  <a:pt x="15006" y="13522"/>
                  <a:pt x="14833" y="13593"/>
                </a:cubicBezTo>
                <a:cubicBezTo>
                  <a:pt x="14650" y="13668"/>
                  <a:pt x="14559" y="13634"/>
                  <a:pt x="14536" y="13519"/>
                </a:cubicBezTo>
              </a:path>
              <a:path w="2977" h="1862">
                <a:moveTo>
                  <a:pt x="13990" y="13891"/>
                </a:moveTo>
                <a:cubicBezTo>
                  <a:pt x="14319" y="13861"/>
                  <a:pt x="14651" y="13847"/>
                  <a:pt x="14982" y="13841"/>
                </a:cubicBezTo>
                <a:cubicBezTo>
                  <a:pt x="15040" y="13841"/>
                  <a:pt x="15048" y="13841"/>
                  <a:pt x="15081" y="13841"/>
                </a:cubicBezTo>
              </a:path>
              <a:path w="2977" h="1862">
                <a:moveTo>
                  <a:pt x="14734" y="14139"/>
                </a:moveTo>
                <a:cubicBezTo>
                  <a:pt x="14649" y="14139"/>
                  <a:pt x="14530" y="14120"/>
                  <a:pt x="14486" y="14163"/>
                </a:cubicBezTo>
                <a:cubicBezTo>
                  <a:pt x="14416" y="14232"/>
                  <a:pt x="14419" y="14302"/>
                  <a:pt x="14387" y="14387"/>
                </a:cubicBezTo>
                <a:cubicBezTo>
                  <a:pt x="14476" y="14387"/>
                  <a:pt x="14550" y="14372"/>
                  <a:pt x="14635" y="14362"/>
                </a:cubicBezTo>
                <a:cubicBezTo>
                  <a:pt x="14760" y="14348"/>
                  <a:pt x="14836" y="14471"/>
                  <a:pt x="14784" y="14585"/>
                </a:cubicBezTo>
                <a:cubicBezTo>
                  <a:pt x="14693" y="14782"/>
                  <a:pt x="14474" y="14752"/>
                  <a:pt x="14312" y="14684"/>
                </a:cubicBezTo>
                <a:cubicBezTo>
                  <a:pt x="14284" y="14656"/>
                  <a:pt x="14276" y="14643"/>
                  <a:pt x="14288" y="14610"/>
                </a:cubicBezTo>
              </a:path>
              <a:path w="2977" h="1862">
                <a:moveTo>
                  <a:pt x="15255" y="14089"/>
                </a:moveTo>
                <a:cubicBezTo>
                  <a:pt x="15357" y="14074"/>
                  <a:pt x="15448" y="14064"/>
                  <a:pt x="15553" y="14064"/>
                </a:cubicBezTo>
              </a:path>
              <a:path w="2977" h="1862">
                <a:moveTo>
                  <a:pt x="15230" y="14263"/>
                </a:moveTo>
                <a:cubicBezTo>
                  <a:pt x="15358" y="14228"/>
                  <a:pt x="15381" y="14213"/>
                  <a:pt x="15503" y="14213"/>
                </a:cubicBezTo>
              </a:path>
              <a:path w="2977" h="1862">
                <a:moveTo>
                  <a:pt x="15925" y="13841"/>
                </a:moveTo>
                <a:cubicBezTo>
                  <a:pt x="16046" y="13806"/>
                  <a:pt x="16163" y="13725"/>
                  <a:pt x="16297" y="13791"/>
                </a:cubicBezTo>
                <a:cubicBezTo>
                  <a:pt x="16489" y="13885"/>
                  <a:pt x="16276" y="14049"/>
                  <a:pt x="16173" y="14089"/>
                </a:cubicBezTo>
                <a:cubicBezTo>
                  <a:pt x="16165" y="14089"/>
                  <a:pt x="16156" y="14089"/>
                  <a:pt x="16148" y="14089"/>
                </a:cubicBezTo>
                <a:cubicBezTo>
                  <a:pt x="16262" y="14089"/>
                  <a:pt x="16456" y="14065"/>
                  <a:pt x="16446" y="14238"/>
                </a:cubicBezTo>
                <a:cubicBezTo>
                  <a:pt x="16431" y="14492"/>
                  <a:pt x="16121" y="14409"/>
                  <a:pt x="15999" y="14362"/>
                </a:cubicBezTo>
              </a:path>
              <a:path w="2977" h="1862">
                <a:moveTo>
                  <a:pt x="15652" y="14412"/>
                </a:moveTo>
                <a:cubicBezTo>
                  <a:pt x="15707" y="14651"/>
                  <a:pt x="15917" y="14690"/>
                  <a:pt x="16148" y="14734"/>
                </a:cubicBezTo>
                <a:cubicBezTo>
                  <a:pt x="16413" y="14784"/>
                  <a:pt x="16740" y="14715"/>
                  <a:pt x="16892" y="14461"/>
                </a:cubicBezTo>
                <a:cubicBezTo>
                  <a:pt x="17081" y="14143"/>
                  <a:pt x="16896" y="13883"/>
                  <a:pt x="16644" y="13692"/>
                </a:cubicBezTo>
                <a:cubicBezTo>
                  <a:pt x="16415" y="13518"/>
                  <a:pt x="16066" y="13429"/>
                  <a:pt x="15801" y="13593"/>
                </a:cubicBezTo>
                <a:cubicBezTo>
                  <a:pt x="15457" y="13806"/>
                  <a:pt x="15456" y="14268"/>
                  <a:pt x="15801" y="14486"/>
                </a:cubicBezTo>
                <a:cubicBezTo>
                  <a:pt x="15875" y="14503"/>
                  <a:pt x="15950" y="14519"/>
                  <a:pt x="160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7000" y="4946760"/>
            <a:ext cx="1035000" cy="492120"/>
          </a:xfrm>
          <a:custGeom>
            <a:avLst/>
            <a:gdLst/>
            <a:ahLst/>
            <a:rect l="l" t="t" r="r" b="b"/>
            <a:pathLst>
              <a:path w="2878" h="1365">
                <a:moveTo>
                  <a:pt x="3324" y="13990"/>
                </a:moveTo>
                <a:cubicBezTo>
                  <a:pt x="3382" y="14048"/>
                  <a:pt x="3412" y="14143"/>
                  <a:pt x="3423" y="14238"/>
                </a:cubicBezTo>
                <a:cubicBezTo>
                  <a:pt x="3598" y="14150"/>
                  <a:pt x="3801" y="14121"/>
                  <a:pt x="3994" y="14089"/>
                </a:cubicBezTo>
                <a:cubicBezTo>
                  <a:pt x="4096" y="14072"/>
                  <a:pt x="4155" y="14064"/>
                  <a:pt x="4242" y="14064"/>
                </a:cubicBezTo>
                <a:cubicBezTo>
                  <a:pt x="4242" y="13957"/>
                  <a:pt x="4242" y="13849"/>
                  <a:pt x="4242" y="13742"/>
                </a:cubicBezTo>
              </a:path>
              <a:path w="2878" h="1365">
                <a:moveTo>
                  <a:pt x="3845" y="14610"/>
                </a:moveTo>
                <a:cubicBezTo>
                  <a:pt x="3958" y="14542"/>
                  <a:pt x="4158" y="14557"/>
                  <a:pt x="4291" y="14536"/>
                </a:cubicBezTo>
                <a:cubicBezTo>
                  <a:pt x="4382" y="14518"/>
                  <a:pt x="4389" y="14509"/>
                  <a:pt x="4440" y="14511"/>
                </a:cubicBezTo>
                <a:cubicBezTo>
                  <a:pt x="4421" y="14724"/>
                  <a:pt x="4353" y="14901"/>
                  <a:pt x="4316" y="15106"/>
                </a:cubicBezTo>
              </a:path>
              <a:path w="2878" h="1365">
                <a:moveTo>
                  <a:pt x="4911" y="14486"/>
                </a:moveTo>
                <a:cubicBezTo>
                  <a:pt x="4911" y="14587"/>
                  <a:pt x="4949" y="14950"/>
                  <a:pt x="4887" y="15032"/>
                </a:cubicBezTo>
                <a:cubicBezTo>
                  <a:pt x="4879" y="15007"/>
                  <a:pt x="4870" y="14982"/>
                  <a:pt x="4862" y="14957"/>
                </a:cubicBezTo>
              </a:path>
              <a:path w="2878" h="1365">
                <a:moveTo>
                  <a:pt x="4787" y="14784"/>
                </a:moveTo>
                <a:cubicBezTo>
                  <a:pt x="4927" y="14753"/>
                  <a:pt x="5103" y="14773"/>
                  <a:pt x="5234" y="14734"/>
                </a:cubicBezTo>
                <a:cubicBezTo>
                  <a:pt x="5250" y="14726"/>
                  <a:pt x="5267" y="14717"/>
                  <a:pt x="5283" y="14709"/>
                </a:cubicBezTo>
              </a:path>
              <a:path w="2878" h="1365">
                <a:moveTo>
                  <a:pt x="5432" y="14312"/>
                </a:moveTo>
                <a:cubicBezTo>
                  <a:pt x="5453" y="14481"/>
                  <a:pt x="5455" y="14662"/>
                  <a:pt x="5432" y="14833"/>
                </a:cubicBezTo>
                <a:cubicBezTo>
                  <a:pt x="5413" y="14891"/>
                  <a:pt x="5404" y="14897"/>
                  <a:pt x="5407" y="14932"/>
                </a:cubicBezTo>
              </a:path>
              <a:path w="2878" h="1365">
                <a:moveTo>
                  <a:pt x="5755" y="14238"/>
                </a:moveTo>
                <a:cubicBezTo>
                  <a:pt x="5775" y="14413"/>
                  <a:pt x="5725" y="14558"/>
                  <a:pt x="5705" y="14734"/>
                </a:cubicBezTo>
                <a:cubicBezTo>
                  <a:pt x="5693" y="14845"/>
                  <a:pt x="5760" y="14932"/>
                  <a:pt x="5879" y="14932"/>
                </a:cubicBezTo>
                <a:cubicBezTo>
                  <a:pt x="5999" y="14932"/>
                  <a:pt x="6075" y="14862"/>
                  <a:pt x="6152" y="14784"/>
                </a:cubicBezTo>
                <a:cubicBezTo>
                  <a:pt x="6200" y="14736"/>
                  <a:pt x="6201" y="14699"/>
                  <a:pt x="6201" y="14635"/>
                </a:cubicBezTo>
                <a:cubicBezTo>
                  <a:pt x="6119" y="14621"/>
                  <a:pt x="6044" y="14573"/>
                  <a:pt x="5978" y="14660"/>
                </a:cubicBezTo>
                <a:cubicBezTo>
                  <a:pt x="5935" y="14717"/>
                  <a:pt x="5928" y="14814"/>
                  <a:pt x="5928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27200" y="3821040"/>
            <a:ext cx="1009800" cy="696960"/>
          </a:xfrm>
          <a:custGeom>
            <a:avLst/>
            <a:gdLst/>
            <a:ahLst/>
            <a:rect l="l" t="t" r="r" b="b"/>
            <a:pathLst>
              <a:path w="2804" h="1936">
                <a:moveTo>
                  <a:pt x="7094" y="11013"/>
                </a:moveTo>
                <a:cubicBezTo>
                  <a:pt x="7072" y="11094"/>
                  <a:pt x="7060" y="11196"/>
                  <a:pt x="7020" y="11261"/>
                </a:cubicBezTo>
                <a:cubicBezTo>
                  <a:pt x="7127" y="11279"/>
                  <a:pt x="7234" y="11313"/>
                  <a:pt x="7342" y="11261"/>
                </a:cubicBezTo>
                <a:cubicBezTo>
                  <a:pt x="7399" y="11205"/>
                  <a:pt x="7416" y="11179"/>
                  <a:pt x="7392" y="11112"/>
                </a:cubicBezTo>
              </a:path>
              <a:path w="2804" h="1936">
                <a:moveTo>
                  <a:pt x="7317" y="10939"/>
                </a:moveTo>
                <a:cubicBezTo>
                  <a:pt x="7284" y="11153"/>
                  <a:pt x="7274" y="11371"/>
                  <a:pt x="7243" y="11584"/>
                </a:cubicBezTo>
                <a:cubicBezTo>
                  <a:pt x="7243" y="11567"/>
                  <a:pt x="7243" y="11551"/>
                  <a:pt x="7243" y="11534"/>
                </a:cubicBezTo>
              </a:path>
              <a:path w="2804" h="1936">
                <a:moveTo>
                  <a:pt x="7491" y="10716"/>
                </a:moveTo>
                <a:cubicBezTo>
                  <a:pt x="7597" y="10681"/>
                  <a:pt x="7667" y="10729"/>
                  <a:pt x="7640" y="10864"/>
                </a:cubicBezTo>
                <a:cubicBezTo>
                  <a:pt x="7621" y="10961"/>
                  <a:pt x="7528" y="11125"/>
                  <a:pt x="7441" y="11038"/>
                </a:cubicBezTo>
                <a:cubicBezTo>
                  <a:pt x="7465" y="10965"/>
                  <a:pt x="7551" y="11055"/>
                  <a:pt x="7590" y="11088"/>
                </a:cubicBezTo>
                <a:cubicBezTo>
                  <a:pt x="7619" y="11116"/>
                  <a:pt x="7632" y="11124"/>
                  <a:pt x="7665" y="11112"/>
                </a:cubicBezTo>
              </a:path>
              <a:path w="2804" h="1936">
                <a:moveTo>
                  <a:pt x="7863" y="11112"/>
                </a:moveTo>
                <a:cubicBezTo>
                  <a:pt x="7924" y="11102"/>
                  <a:pt x="7975" y="11093"/>
                  <a:pt x="8037" y="11088"/>
                </a:cubicBezTo>
              </a:path>
              <a:path w="2804" h="1936">
                <a:moveTo>
                  <a:pt x="7789" y="11361"/>
                </a:moveTo>
                <a:cubicBezTo>
                  <a:pt x="7873" y="11352"/>
                  <a:pt x="7951" y="11336"/>
                  <a:pt x="8037" y="11336"/>
                </a:cubicBezTo>
              </a:path>
              <a:path w="2804" h="1936">
                <a:moveTo>
                  <a:pt x="8756" y="10815"/>
                </a:moveTo>
                <a:cubicBezTo>
                  <a:pt x="8688" y="10929"/>
                  <a:pt x="8668" y="10961"/>
                  <a:pt x="8632" y="11038"/>
                </a:cubicBezTo>
                <a:cubicBezTo>
                  <a:pt x="8750" y="11058"/>
                  <a:pt x="8856" y="11045"/>
                  <a:pt x="8979" y="11038"/>
                </a:cubicBezTo>
              </a:path>
              <a:path w="2804" h="1936">
                <a:moveTo>
                  <a:pt x="8830" y="10666"/>
                </a:moveTo>
                <a:cubicBezTo>
                  <a:pt x="8871" y="10921"/>
                  <a:pt x="8836" y="11175"/>
                  <a:pt x="8830" y="11435"/>
                </a:cubicBezTo>
                <a:cubicBezTo>
                  <a:pt x="8830" y="11477"/>
                  <a:pt x="8830" y="11502"/>
                  <a:pt x="8830" y="11460"/>
                </a:cubicBezTo>
              </a:path>
              <a:path w="2804" h="1936">
                <a:moveTo>
                  <a:pt x="9079" y="10964"/>
                </a:moveTo>
                <a:cubicBezTo>
                  <a:pt x="9157" y="11075"/>
                  <a:pt x="9231" y="11401"/>
                  <a:pt x="9302" y="11286"/>
                </a:cubicBezTo>
                <a:cubicBezTo>
                  <a:pt x="9302" y="11270"/>
                  <a:pt x="9302" y="11253"/>
                  <a:pt x="9302" y="11237"/>
                </a:cubicBezTo>
              </a:path>
              <a:path w="2804" h="1936">
                <a:moveTo>
                  <a:pt x="9376" y="10889"/>
                </a:moveTo>
                <a:cubicBezTo>
                  <a:pt x="9290" y="11062"/>
                  <a:pt x="8997" y="11552"/>
                  <a:pt x="9128" y="11410"/>
                </a:cubicBezTo>
                <a:cubicBezTo>
                  <a:pt x="9153" y="11377"/>
                  <a:pt x="9178" y="11344"/>
                  <a:pt x="9203" y="11311"/>
                </a:cubicBezTo>
              </a:path>
              <a:path w="2804" h="1936">
                <a:moveTo>
                  <a:pt x="9500" y="10914"/>
                </a:moveTo>
                <a:cubicBezTo>
                  <a:pt x="9490" y="10962"/>
                  <a:pt x="9478" y="11000"/>
                  <a:pt x="9451" y="11038"/>
                </a:cubicBezTo>
                <a:cubicBezTo>
                  <a:pt x="9529" y="11078"/>
                  <a:pt x="9629" y="11063"/>
                  <a:pt x="9723" y="11063"/>
                </a:cubicBezTo>
                <a:cubicBezTo>
                  <a:pt x="9740" y="11063"/>
                  <a:pt x="9756" y="11063"/>
                  <a:pt x="9773" y="11063"/>
                </a:cubicBezTo>
              </a:path>
              <a:path w="2804" h="1936">
                <a:moveTo>
                  <a:pt x="9823" y="10616"/>
                </a:moveTo>
                <a:cubicBezTo>
                  <a:pt x="9803" y="10840"/>
                  <a:pt x="9752" y="11065"/>
                  <a:pt x="9699" y="11286"/>
                </a:cubicBezTo>
                <a:cubicBezTo>
                  <a:pt x="9691" y="11311"/>
                  <a:pt x="9682" y="11336"/>
                  <a:pt x="9674" y="11361"/>
                </a:cubicBezTo>
              </a:path>
              <a:path w="2804" h="1936">
                <a:moveTo>
                  <a:pt x="9079" y="11609"/>
                </a:moveTo>
                <a:cubicBezTo>
                  <a:pt x="9058" y="11717"/>
                  <a:pt x="9038" y="11822"/>
                  <a:pt x="9029" y="11931"/>
                </a:cubicBezTo>
                <a:cubicBezTo>
                  <a:pt x="9137" y="11913"/>
                  <a:pt x="9216" y="11855"/>
                  <a:pt x="9327" y="11832"/>
                </a:cubicBezTo>
                <a:cubicBezTo>
                  <a:pt x="9437" y="11809"/>
                  <a:pt x="9551" y="11801"/>
                  <a:pt x="9649" y="11757"/>
                </a:cubicBezTo>
                <a:cubicBezTo>
                  <a:pt x="9616" y="11644"/>
                  <a:pt x="9607" y="11627"/>
                  <a:pt x="9624" y="11509"/>
                </a:cubicBezTo>
              </a:path>
              <a:path w="2804" h="1936">
                <a:moveTo>
                  <a:pt x="8979" y="12080"/>
                </a:moveTo>
                <a:cubicBezTo>
                  <a:pt x="8976" y="12165"/>
                  <a:pt x="8903" y="12499"/>
                  <a:pt x="8954" y="12551"/>
                </a:cubicBezTo>
                <a:cubicBezTo>
                  <a:pt x="8954" y="12543"/>
                  <a:pt x="8954" y="12534"/>
                  <a:pt x="8954" y="12526"/>
                </a:cubicBezTo>
              </a:path>
              <a:path w="2804" h="1936">
                <a:moveTo>
                  <a:pt x="9277" y="12055"/>
                </a:moveTo>
                <a:cubicBezTo>
                  <a:pt x="9248" y="12165"/>
                  <a:pt x="9101" y="12463"/>
                  <a:pt x="9277" y="12526"/>
                </a:cubicBezTo>
                <a:cubicBezTo>
                  <a:pt x="9445" y="12586"/>
                  <a:pt x="9570" y="12430"/>
                  <a:pt x="9624" y="12303"/>
                </a:cubicBezTo>
                <a:cubicBezTo>
                  <a:pt x="9567" y="12322"/>
                  <a:pt x="9311" y="12387"/>
                  <a:pt x="9401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38760" y="2946240"/>
            <a:ext cx="1143000" cy="795600"/>
          </a:xfrm>
          <a:custGeom>
            <a:avLst/>
            <a:gdLst/>
            <a:ahLst/>
            <a:rect l="l" t="t" r="r" b="b"/>
            <a:pathLst>
              <a:path w="3176" h="2208">
                <a:moveTo>
                  <a:pt x="12229" y="8210"/>
                </a:moveTo>
                <a:cubicBezTo>
                  <a:pt x="12266" y="8104"/>
                  <a:pt x="12279" y="8349"/>
                  <a:pt x="12278" y="8359"/>
                </a:cubicBezTo>
                <a:cubicBezTo>
                  <a:pt x="12260" y="8433"/>
                  <a:pt x="12252" y="8440"/>
                  <a:pt x="12254" y="8483"/>
                </a:cubicBezTo>
                <a:cubicBezTo>
                  <a:pt x="12514" y="8451"/>
                  <a:pt x="12755" y="8412"/>
                  <a:pt x="13022" y="8409"/>
                </a:cubicBezTo>
                <a:cubicBezTo>
                  <a:pt x="13105" y="8408"/>
                  <a:pt x="13188" y="8409"/>
                  <a:pt x="13271" y="8409"/>
                </a:cubicBezTo>
                <a:cubicBezTo>
                  <a:pt x="13248" y="8339"/>
                  <a:pt x="13218" y="8275"/>
                  <a:pt x="13196" y="8210"/>
                </a:cubicBezTo>
              </a:path>
              <a:path w="3176" h="2208">
                <a:moveTo>
                  <a:pt x="12353" y="8830"/>
                </a:moveTo>
                <a:cubicBezTo>
                  <a:pt x="12399" y="8957"/>
                  <a:pt x="12402" y="9068"/>
                  <a:pt x="12402" y="9203"/>
                </a:cubicBezTo>
              </a:path>
              <a:path w="3176" h="2208">
                <a:moveTo>
                  <a:pt x="12675" y="8905"/>
                </a:moveTo>
                <a:cubicBezTo>
                  <a:pt x="12637" y="9018"/>
                  <a:pt x="12805" y="8965"/>
                  <a:pt x="12898" y="8979"/>
                </a:cubicBezTo>
                <a:cubicBezTo>
                  <a:pt x="13033" y="9000"/>
                  <a:pt x="12998" y="9025"/>
                  <a:pt x="12998" y="8880"/>
                </a:cubicBezTo>
              </a:path>
              <a:path w="3176" h="2208">
                <a:moveTo>
                  <a:pt x="12898" y="8706"/>
                </a:moveTo>
                <a:cubicBezTo>
                  <a:pt x="12898" y="8877"/>
                  <a:pt x="12899" y="9036"/>
                  <a:pt x="12923" y="9203"/>
                </a:cubicBezTo>
              </a:path>
              <a:path w="3176" h="2208">
                <a:moveTo>
                  <a:pt x="11013" y="8855"/>
                </a:moveTo>
                <a:cubicBezTo>
                  <a:pt x="11005" y="8960"/>
                  <a:pt x="10902" y="9263"/>
                  <a:pt x="10939" y="9351"/>
                </a:cubicBezTo>
                <a:cubicBezTo>
                  <a:pt x="10955" y="9343"/>
                  <a:pt x="10972" y="9335"/>
                  <a:pt x="10988" y="9327"/>
                </a:cubicBezTo>
              </a:path>
              <a:path w="3176" h="2208">
                <a:moveTo>
                  <a:pt x="11237" y="8806"/>
                </a:moveTo>
                <a:cubicBezTo>
                  <a:pt x="11289" y="8784"/>
                  <a:pt x="11580" y="8683"/>
                  <a:pt x="11509" y="8880"/>
                </a:cubicBezTo>
                <a:cubicBezTo>
                  <a:pt x="11443" y="8946"/>
                  <a:pt x="11426" y="8963"/>
                  <a:pt x="11385" y="9004"/>
                </a:cubicBezTo>
                <a:cubicBezTo>
                  <a:pt x="11443" y="8979"/>
                  <a:pt x="11638" y="8986"/>
                  <a:pt x="11534" y="9128"/>
                </a:cubicBezTo>
                <a:cubicBezTo>
                  <a:pt x="11489" y="9189"/>
                  <a:pt x="11346" y="9224"/>
                  <a:pt x="11311" y="9153"/>
                </a:cubicBezTo>
              </a:path>
              <a:path w="3176" h="2208">
                <a:moveTo>
                  <a:pt x="11981" y="8855"/>
                </a:moveTo>
                <a:cubicBezTo>
                  <a:pt x="11960" y="8970"/>
                  <a:pt x="11994" y="9080"/>
                  <a:pt x="12005" y="9203"/>
                </a:cubicBezTo>
              </a:path>
              <a:path w="3176" h="2208">
                <a:moveTo>
                  <a:pt x="11733" y="9079"/>
                </a:moveTo>
                <a:cubicBezTo>
                  <a:pt x="11841" y="9042"/>
                  <a:pt x="11980" y="9054"/>
                  <a:pt x="12105" y="9054"/>
                </a:cubicBezTo>
                <a:cubicBezTo>
                  <a:pt x="12113" y="9054"/>
                  <a:pt x="12121" y="9054"/>
                  <a:pt x="12129" y="9054"/>
                </a:cubicBezTo>
              </a:path>
              <a:path w="3176" h="2208">
                <a:moveTo>
                  <a:pt x="13320" y="8930"/>
                </a:moveTo>
                <a:cubicBezTo>
                  <a:pt x="13449" y="8930"/>
                  <a:pt x="13591" y="8886"/>
                  <a:pt x="13717" y="8905"/>
                </a:cubicBezTo>
                <a:cubicBezTo>
                  <a:pt x="13734" y="8913"/>
                  <a:pt x="13750" y="8922"/>
                  <a:pt x="13767" y="8930"/>
                </a:cubicBezTo>
              </a:path>
              <a:path w="3176" h="2208">
                <a:moveTo>
                  <a:pt x="13940" y="8682"/>
                </a:moveTo>
                <a:cubicBezTo>
                  <a:pt x="13973" y="8838"/>
                  <a:pt x="14007" y="8994"/>
                  <a:pt x="14015" y="9153"/>
                </a:cubicBezTo>
                <a:cubicBezTo>
                  <a:pt x="14015" y="9178"/>
                  <a:pt x="14015" y="9186"/>
                  <a:pt x="14015" y="9203"/>
                </a:cubicBezTo>
              </a:path>
              <a:path w="3176" h="2208">
                <a:moveTo>
                  <a:pt x="11485" y="9525"/>
                </a:moveTo>
                <a:cubicBezTo>
                  <a:pt x="11485" y="9608"/>
                  <a:pt x="11485" y="9624"/>
                  <a:pt x="11485" y="9674"/>
                </a:cubicBezTo>
                <a:cubicBezTo>
                  <a:pt x="11677" y="9631"/>
                  <a:pt x="11841" y="9572"/>
                  <a:pt x="12055" y="9550"/>
                </a:cubicBezTo>
                <a:cubicBezTo>
                  <a:pt x="12140" y="9542"/>
                  <a:pt x="12619" y="9583"/>
                  <a:pt x="12700" y="9525"/>
                </a:cubicBezTo>
                <a:cubicBezTo>
                  <a:pt x="12708" y="9519"/>
                  <a:pt x="12794" y="9332"/>
                  <a:pt x="12774" y="9302"/>
                </a:cubicBezTo>
                <a:cubicBezTo>
                  <a:pt x="12766" y="9302"/>
                  <a:pt x="12758" y="9302"/>
                  <a:pt x="12750" y="9302"/>
                </a:cubicBezTo>
              </a:path>
              <a:path w="3176" h="2208">
                <a:moveTo>
                  <a:pt x="12700" y="8855"/>
                </a:moveTo>
                <a:cubicBezTo>
                  <a:pt x="12724" y="8807"/>
                  <a:pt x="12750" y="8652"/>
                  <a:pt x="12750" y="8706"/>
                </a:cubicBezTo>
                <a:cubicBezTo>
                  <a:pt x="12750" y="8793"/>
                  <a:pt x="12724" y="8871"/>
                  <a:pt x="12700" y="8954"/>
                </a:cubicBezTo>
              </a:path>
              <a:path w="3176" h="2208">
                <a:moveTo>
                  <a:pt x="11956" y="10071"/>
                </a:moveTo>
                <a:cubicBezTo>
                  <a:pt x="11956" y="10141"/>
                  <a:pt x="11944" y="10388"/>
                  <a:pt x="11956" y="10368"/>
                </a:cubicBezTo>
                <a:cubicBezTo>
                  <a:pt x="11972" y="10343"/>
                  <a:pt x="11989" y="10319"/>
                  <a:pt x="12005" y="10294"/>
                </a:cubicBezTo>
              </a:path>
              <a:path w="3176" h="2208">
                <a:moveTo>
                  <a:pt x="12129" y="9996"/>
                </a:moveTo>
                <a:cubicBezTo>
                  <a:pt x="12152" y="9928"/>
                  <a:pt x="12318" y="9948"/>
                  <a:pt x="12378" y="9947"/>
                </a:cubicBezTo>
                <a:cubicBezTo>
                  <a:pt x="12452" y="9945"/>
                  <a:pt x="12527" y="9947"/>
                  <a:pt x="12601" y="9947"/>
                </a:cubicBezTo>
                <a:cubicBezTo>
                  <a:pt x="12576" y="10069"/>
                  <a:pt x="12525" y="10192"/>
                  <a:pt x="12502" y="10319"/>
                </a:cubicBezTo>
                <a:cubicBezTo>
                  <a:pt x="12502" y="10344"/>
                  <a:pt x="12502" y="10352"/>
                  <a:pt x="12526" y="10344"/>
                </a:cubicBezTo>
              </a:path>
              <a:path w="3176" h="2208">
                <a:moveTo>
                  <a:pt x="12849" y="10120"/>
                </a:moveTo>
                <a:cubicBezTo>
                  <a:pt x="12942" y="10105"/>
                  <a:pt x="13026" y="10076"/>
                  <a:pt x="13122" y="10071"/>
                </a:cubicBezTo>
                <a:cubicBezTo>
                  <a:pt x="13130" y="10071"/>
                  <a:pt x="13138" y="10071"/>
                  <a:pt x="13146" y="10071"/>
                </a:cubicBezTo>
              </a:path>
              <a:path w="3176" h="2208">
                <a:moveTo>
                  <a:pt x="13444" y="9897"/>
                </a:moveTo>
                <a:cubicBezTo>
                  <a:pt x="13444" y="10050"/>
                  <a:pt x="13440" y="10194"/>
                  <a:pt x="13419" y="10344"/>
                </a:cubicBezTo>
                <a:cubicBezTo>
                  <a:pt x="13419" y="10352"/>
                  <a:pt x="13419" y="10360"/>
                  <a:pt x="13419" y="10368"/>
                </a:cubicBezTo>
              </a:path>
              <a:path w="3176" h="2208">
                <a:moveTo>
                  <a:pt x="13767" y="10021"/>
                </a:moveTo>
                <a:cubicBezTo>
                  <a:pt x="13891" y="9977"/>
                  <a:pt x="13981" y="9971"/>
                  <a:pt x="14114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11200" y="5438880"/>
            <a:ext cx="723960" cy="687240"/>
          </a:xfrm>
          <a:custGeom>
            <a:avLst/>
            <a:gdLst/>
            <a:ahLst/>
            <a:rect l="l" t="t" r="r" b="b"/>
            <a:pathLst>
              <a:path w="2010" h="1911">
                <a:moveTo>
                  <a:pt x="4415" y="15304"/>
                </a:moveTo>
                <a:cubicBezTo>
                  <a:pt x="4419" y="15388"/>
                  <a:pt x="4465" y="15547"/>
                  <a:pt x="4440" y="15627"/>
                </a:cubicBezTo>
                <a:cubicBezTo>
                  <a:pt x="4432" y="15627"/>
                  <a:pt x="4423" y="15627"/>
                  <a:pt x="4415" y="15627"/>
                </a:cubicBezTo>
                <a:cubicBezTo>
                  <a:pt x="4658" y="15646"/>
                  <a:pt x="4979" y="15538"/>
                  <a:pt x="5234" y="15503"/>
                </a:cubicBezTo>
                <a:cubicBezTo>
                  <a:pt x="5374" y="15484"/>
                  <a:pt x="5472" y="15483"/>
                  <a:pt x="5606" y="15478"/>
                </a:cubicBezTo>
                <a:cubicBezTo>
                  <a:pt x="5606" y="15354"/>
                  <a:pt x="5606" y="15230"/>
                  <a:pt x="5606" y="15106"/>
                </a:cubicBezTo>
              </a:path>
              <a:path w="2010" h="1911">
                <a:moveTo>
                  <a:pt x="4539" y="16073"/>
                </a:moveTo>
                <a:cubicBezTo>
                  <a:pt x="4539" y="16057"/>
                  <a:pt x="4539" y="16040"/>
                  <a:pt x="4539" y="16024"/>
                </a:cubicBezTo>
                <a:cubicBezTo>
                  <a:pt x="4682" y="15962"/>
                  <a:pt x="4817" y="16017"/>
                  <a:pt x="4837" y="16197"/>
                </a:cubicBezTo>
                <a:cubicBezTo>
                  <a:pt x="4865" y="16456"/>
                  <a:pt x="4602" y="16624"/>
                  <a:pt x="4366" y="16570"/>
                </a:cubicBezTo>
                <a:cubicBezTo>
                  <a:pt x="4325" y="16545"/>
                  <a:pt x="4283" y="16520"/>
                  <a:pt x="4242" y="16495"/>
                </a:cubicBezTo>
                <a:cubicBezTo>
                  <a:pt x="4308" y="16318"/>
                  <a:pt x="4505" y="16376"/>
                  <a:pt x="4663" y="16421"/>
                </a:cubicBezTo>
                <a:cubicBezTo>
                  <a:pt x="4843" y="16472"/>
                  <a:pt x="4747" y="16514"/>
                  <a:pt x="4887" y="16446"/>
                </a:cubicBezTo>
              </a:path>
              <a:path w="2010" h="1911">
                <a:moveTo>
                  <a:pt x="5035" y="15974"/>
                </a:moveTo>
                <a:cubicBezTo>
                  <a:pt x="5087" y="15983"/>
                  <a:pt x="5245" y="15984"/>
                  <a:pt x="5283" y="16024"/>
                </a:cubicBezTo>
                <a:cubicBezTo>
                  <a:pt x="5291" y="16049"/>
                  <a:pt x="5300" y="16073"/>
                  <a:pt x="5308" y="16098"/>
                </a:cubicBezTo>
                <a:cubicBezTo>
                  <a:pt x="5246" y="16167"/>
                  <a:pt x="5155" y="16269"/>
                  <a:pt x="5085" y="16222"/>
                </a:cubicBezTo>
                <a:cubicBezTo>
                  <a:pt x="5184" y="16202"/>
                  <a:pt x="5292" y="16159"/>
                  <a:pt x="5383" y="16247"/>
                </a:cubicBezTo>
                <a:cubicBezTo>
                  <a:pt x="5563" y="16421"/>
                  <a:pt x="5233" y="16542"/>
                  <a:pt x="5110" y="16545"/>
                </a:cubicBezTo>
                <a:cubicBezTo>
                  <a:pt x="5021" y="16523"/>
                  <a:pt x="4981" y="16522"/>
                  <a:pt x="5060" y="16470"/>
                </a:cubicBezTo>
              </a:path>
              <a:path w="2010" h="1911">
                <a:moveTo>
                  <a:pt x="3919" y="16842"/>
                </a:moveTo>
                <a:cubicBezTo>
                  <a:pt x="4186" y="16959"/>
                  <a:pt x="4404" y="17016"/>
                  <a:pt x="4713" y="17016"/>
                </a:cubicBezTo>
                <a:cubicBezTo>
                  <a:pt x="5102" y="17016"/>
                  <a:pt x="5559" y="16891"/>
                  <a:pt x="5854" y="16619"/>
                </a:cubicBezTo>
                <a:cubicBezTo>
                  <a:pt x="6054" y="16435"/>
                  <a:pt x="5775" y="16116"/>
                  <a:pt x="5606" y="16024"/>
                </a:cubicBezTo>
                <a:cubicBezTo>
                  <a:pt x="5392" y="15907"/>
                  <a:pt x="4925" y="15845"/>
                  <a:pt x="4688" y="15900"/>
                </a:cubicBezTo>
                <a:cubicBezTo>
                  <a:pt x="4348" y="15979"/>
                  <a:pt x="4107" y="16283"/>
                  <a:pt x="3994" y="16594"/>
                </a:cubicBezTo>
                <a:cubicBezTo>
                  <a:pt x="3835" y="17032"/>
                  <a:pt x="4408" y="16942"/>
                  <a:pt x="4638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73760" y="3143160"/>
            <a:ext cx="2224080" cy="536760"/>
          </a:xfrm>
          <a:custGeom>
            <a:avLst/>
            <a:gdLst/>
            <a:ahLst/>
            <a:rect l="l" t="t" r="r" b="b"/>
            <a:pathLst>
              <a:path w="6178" h="1490">
                <a:moveTo>
                  <a:pt x="13816" y="10220"/>
                </a:moveTo>
                <a:cubicBezTo>
                  <a:pt x="13948" y="10196"/>
                  <a:pt x="14079" y="10180"/>
                  <a:pt x="14213" y="10170"/>
                </a:cubicBezTo>
              </a:path>
              <a:path w="6178" h="1490">
                <a:moveTo>
                  <a:pt x="17264" y="8731"/>
                </a:moveTo>
                <a:cubicBezTo>
                  <a:pt x="17198" y="8831"/>
                  <a:pt x="17070" y="9080"/>
                  <a:pt x="17264" y="9153"/>
                </a:cubicBezTo>
                <a:cubicBezTo>
                  <a:pt x="17514" y="9247"/>
                  <a:pt x="17561" y="8976"/>
                  <a:pt x="17462" y="8830"/>
                </a:cubicBezTo>
                <a:cubicBezTo>
                  <a:pt x="17399" y="8767"/>
                  <a:pt x="17389" y="8750"/>
                  <a:pt x="17338" y="8731"/>
                </a:cubicBezTo>
              </a:path>
              <a:path w="6178" h="1490">
                <a:moveTo>
                  <a:pt x="19496" y="8830"/>
                </a:moveTo>
                <a:cubicBezTo>
                  <a:pt x="19662" y="8811"/>
                  <a:pt x="19827" y="8796"/>
                  <a:pt x="19993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3680" y="3411360"/>
            <a:ext cx="492120" cy="339840"/>
          </a:xfrm>
          <a:custGeom>
            <a:avLst/>
            <a:gdLst/>
            <a:ahLst/>
            <a:rect l="l" t="t" r="r" b="b"/>
            <a:pathLst>
              <a:path w="1365" h="944">
                <a:moveTo>
                  <a:pt x="14585" y="9723"/>
                </a:moveTo>
                <a:cubicBezTo>
                  <a:pt x="14585" y="9852"/>
                  <a:pt x="14575" y="9992"/>
                  <a:pt x="14560" y="10120"/>
                </a:cubicBezTo>
                <a:cubicBezTo>
                  <a:pt x="14542" y="10211"/>
                  <a:pt x="14534" y="10218"/>
                  <a:pt x="14536" y="10269"/>
                </a:cubicBezTo>
              </a:path>
              <a:path w="1365" h="944">
                <a:moveTo>
                  <a:pt x="14833" y="9674"/>
                </a:moveTo>
                <a:cubicBezTo>
                  <a:pt x="14815" y="9817"/>
                  <a:pt x="14787" y="9951"/>
                  <a:pt x="14784" y="10096"/>
                </a:cubicBezTo>
                <a:cubicBezTo>
                  <a:pt x="14780" y="10246"/>
                  <a:pt x="14879" y="10301"/>
                  <a:pt x="15032" y="10269"/>
                </a:cubicBezTo>
                <a:cubicBezTo>
                  <a:pt x="15164" y="10242"/>
                  <a:pt x="15218" y="10193"/>
                  <a:pt x="15280" y="10096"/>
                </a:cubicBezTo>
                <a:cubicBezTo>
                  <a:pt x="15263" y="10036"/>
                  <a:pt x="15210" y="9963"/>
                  <a:pt x="15131" y="10021"/>
                </a:cubicBezTo>
                <a:cubicBezTo>
                  <a:pt x="15023" y="10101"/>
                  <a:pt x="14969" y="10206"/>
                  <a:pt x="15056" y="10294"/>
                </a:cubicBezTo>
              </a:path>
              <a:path w="1365" h="944">
                <a:moveTo>
                  <a:pt x="14288" y="10319"/>
                </a:moveTo>
                <a:cubicBezTo>
                  <a:pt x="14383" y="10340"/>
                  <a:pt x="14455" y="10403"/>
                  <a:pt x="14560" y="10418"/>
                </a:cubicBezTo>
                <a:cubicBezTo>
                  <a:pt x="14787" y="10451"/>
                  <a:pt x="15064" y="10416"/>
                  <a:pt x="15280" y="10344"/>
                </a:cubicBezTo>
                <a:cubicBezTo>
                  <a:pt x="15465" y="10282"/>
                  <a:pt x="15639" y="10230"/>
                  <a:pt x="15652" y="10021"/>
                </a:cubicBezTo>
                <a:cubicBezTo>
                  <a:pt x="15662" y="9859"/>
                  <a:pt x="15617" y="9697"/>
                  <a:pt x="15478" y="9599"/>
                </a:cubicBezTo>
                <a:cubicBezTo>
                  <a:pt x="15309" y="9480"/>
                  <a:pt x="15105" y="9444"/>
                  <a:pt x="14908" y="9500"/>
                </a:cubicBezTo>
                <a:cubicBezTo>
                  <a:pt x="14727" y="9552"/>
                  <a:pt x="14631" y="9699"/>
                  <a:pt x="14536" y="9847"/>
                </a:cubicBezTo>
                <a:cubicBezTo>
                  <a:pt x="14470" y="9949"/>
                  <a:pt x="14397" y="10016"/>
                  <a:pt x="14412" y="10145"/>
                </a:cubicBezTo>
                <a:cubicBezTo>
                  <a:pt x="14432" y="10317"/>
                  <a:pt x="14521" y="10404"/>
                  <a:pt x="14684" y="10418"/>
                </a:cubicBezTo>
                <a:cubicBezTo>
                  <a:pt x="14708" y="10420"/>
                  <a:pt x="14734" y="10418"/>
                  <a:pt x="14759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56200" y="3116160"/>
            <a:ext cx="196920" cy="196920"/>
          </a:xfrm>
          <a:custGeom>
            <a:avLst/>
            <a:gdLst/>
            <a:ahLst/>
            <a:rect l="l" t="t" r="r" b="b"/>
            <a:pathLst>
              <a:path w="546" h="547">
                <a:moveTo>
                  <a:pt x="16694" y="8657"/>
                </a:moveTo>
                <a:cubicBezTo>
                  <a:pt x="16882" y="8678"/>
                  <a:pt x="17132" y="8744"/>
                  <a:pt x="17016" y="9004"/>
                </a:cubicBezTo>
                <a:cubicBezTo>
                  <a:pt x="16900" y="9264"/>
                  <a:pt x="16698" y="9221"/>
                  <a:pt x="16545" y="9079"/>
                </a:cubicBezTo>
                <a:cubicBezTo>
                  <a:pt x="16658" y="8914"/>
                  <a:pt x="16760" y="8934"/>
                  <a:pt x="16942" y="9054"/>
                </a:cubicBezTo>
                <a:cubicBezTo>
                  <a:pt x="17027" y="9110"/>
                  <a:pt x="17008" y="9162"/>
                  <a:pt x="17090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38960" y="2911320"/>
            <a:ext cx="669960" cy="330480"/>
          </a:xfrm>
          <a:custGeom>
            <a:avLst/>
            <a:gdLst/>
            <a:ahLst/>
            <a:rect l="l" t="t" r="r" b="b"/>
            <a:pathLst>
              <a:path w="1862" h="919">
                <a:moveTo>
                  <a:pt x="18182" y="8210"/>
                </a:moveTo>
                <a:cubicBezTo>
                  <a:pt x="18184" y="8212"/>
                  <a:pt x="18228" y="8383"/>
                  <a:pt x="18231" y="8384"/>
                </a:cubicBezTo>
                <a:cubicBezTo>
                  <a:pt x="18429" y="8430"/>
                  <a:pt x="18721" y="8303"/>
                  <a:pt x="18926" y="8285"/>
                </a:cubicBezTo>
                <a:cubicBezTo>
                  <a:pt x="19074" y="8272"/>
                  <a:pt x="19025" y="8235"/>
                  <a:pt x="19025" y="8086"/>
                </a:cubicBezTo>
              </a:path>
              <a:path w="1862" h="919">
                <a:moveTo>
                  <a:pt x="18380" y="8558"/>
                </a:moveTo>
                <a:cubicBezTo>
                  <a:pt x="18395" y="8676"/>
                  <a:pt x="18405" y="8785"/>
                  <a:pt x="18405" y="8905"/>
                </a:cubicBezTo>
                <a:cubicBezTo>
                  <a:pt x="18405" y="8913"/>
                  <a:pt x="18405" y="8922"/>
                  <a:pt x="18405" y="8930"/>
                </a:cubicBezTo>
              </a:path>
              <a:path w="1862" h="919">
                <a:moveTo>
                  <a:pt x="18876" y="8483"/>
                </a:moveTo>
                <a:cubicBezTo>
                  <a:pt x="18762" y="8483"/>
                  <a:pt x="18752" y="8470"/>
                  <a:pt x="18703" y="8582"/>
                </a:cubicBezTo>
                <a:cubicBezTo>
                  <a:pt x="18683" y="8643"/>
                  <a:pt x="18685" y="8658"/>
                  <a:pt x="18653" y="8682"/>
                </a:cubicBezTo>
                <a:cubicBezTo>
                  <a:pt x="18744" y="8717"/>
                  <a:pt x="18802" y="8614"/>
                  <a:pt x="18901" y="8607"/>
                </a:cubicBezTo>
                <a:cubicBezTo>
                  <a:pt x="19043" y="8597"/>
                  <a:pt x="19136" y="8731"/>
                  <a:pt x="19124" y="8855"/>
                </a:cubicBezTo>
                <a:cubicBezTo>
                  <a:pt x="19107" y="9030"/>
                  <a:pt x="18813" y="8945"/>
                  <a:pt x="18703" y="8930"/>
                </a:cubicBezTo>
              </a:path>
              <a:path w="1862" h="919">
                <a:moveTo>
                  <a:pt x="17884" y="8830"/>
                </a:moveTo>
                <a:cubicBezTo>
                  <a:pt x="17983" y="8830"/>
                  <a:pt x="18086" y="8737"/>
                  <a:pt x="18157" y="8806"/>
                </a:cubicBezTo>
                <a:cubicBezTo>
                  <a:pt x="18157" y="8814"/>
                  <a:pt x="18157" y="8822"/>
                  <a:pt x="18157" y="8830"/>
                </a:cubicBezTo>
              </a:path>
              <a:path w="1862" h="919">
                <a:moveTo>
                  <a:pt x="19720" y="8582"/>
                </a:moveTo>
                <a:cubicBezTo>
                  <a:pt x="19735" y="8717"/>
                  <a:pt x="19745" y="8843"/>
                  <a:pt x="19745" y="8979"/>
                </a:cubicBezTo>
                <a:cubicBezTo>
                  <a:pt x="19745" y="9007"/>
                  <a:pt x="19743" y="9013"/>
                  <a:pt x="19720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13800" y="4749840"/>
            <a:ext cx="115920" cy="152280"/>
          </a:xfrm>
          <a:custGeom>
            <a:avLst/>
            <a:gdLst/>
            <a:ahLst/>
            <a:rect l="l" t="t" r="r" b="b"/>
            <a:pathLst>
              <a:path w="324" h="423">
                <a:moveTo>
                  <a:pt x="21704" y="13196"/>
                </a:moveTo>
                <a:cubicBezTo>
                  <a:pt x="21809" y="13338"/>
                  <a:pt x="21914" y="13483"/>
                  <a:pt x="22027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96120" y="3098880"/>
            <a:ext cx="554040" cy="652320"/>
          </a:xfrm>
          <a:custGeom>
            <a:avLst/>
            <a:gdLst/>
            <a:ahLst/>
            <a:rect l="l" t="t" r="r" b="b"/>
            <a:pathLst>
              <a:path w="1539" h="1812">
                <a:moveTo>
                  <a:pt x="20265" y="8607"/>
                </a:moveTo>
                <a:cubicBezTo>
                  <a:pt x="20283" y="8734"/>
                  <a:pt x="20290" y="8851"/>
                  <a:pt x="20290" y="8979"/>
                </a:cubicBezTo>
              </a:path>
              <a:path w="1539" h="1812">
                <a:moveTo>
                  <a:pt x="20960" y="9699"/>
                </a:moveTo>
                <a:cubicBezTo>
                  <a:pt x="20940" y="9797"/>
                  <a:pt x="20866" y="9924"/>
                  <a:pt x="20861" y="10021"/>
                </a:cubicBezTo>
                <a:cubicBezTo>
                  <a:pt x="20851" y="10224"/>
                  <a:pt x="21060" y="10248"/>
                  <a:pt x="21208" y="10195"/>
                </a:cubicBezTo>
                <a:cubicBezTo>
                  <a:pt x="21298" y="10141"/>
                  <a:pt x="21339" y="10156"/>
                  <a:pt x="21332" y="10096"/>
                </a:cubicBezTo>
                <a:cubicBezTo>
                  <a:pt x="21219" y="10008"/>
                  <a:pt x="21141" y="10003"/>
                  <a:pt x="21059" y="10145"/>
                </a:cubicBezTo>
                <a:cubicBezTo>
                  <a:pt x="21039" y="10206"/>
                  <a:pt x="21020" y="10221"/>
                  <a:pt x="21059" y="10244"/>
                </a:cubicBezTo>
              </a:path>
              <a:path w="1539" h="1812">
                <a:moveTo>
                  <a:pt x="20638" y="10195"/>
                </a:moveTo>
                <a:cubicBezTo>
                  <a:pt x="20753" y="10264"/>
                  <a:pt x="20944" y="10408"/>
                  <a:pt x="21109" y="10418"/>
                </a:cubicBezTo>
                <a:cubicBezTo>
                  <a:pt x="21324" y="10431"/>
                  <a:pt x="21671" y="10356"/>
                  <a:pt x="21779" y="10145"/>
                </a:cubicBezTo>
                <a:cubicBezTo>
                  <a:pt x="21908" y="9892"/>
                  <a:pt x="21588" y="9645"/>
                  <a:pt x="21406" y="9550"/>
                </a:cubicBezTo>
                <a:cubicBezTo>
                  <a:pt x="21095" y="9387"/>
                  <a:pt x="20881" y="9552"/>
                  <a:pt x="20712" y="9823"/>
                </a:cubicBezTo>
                <a:cubicBezTo>
                  <a:pt x="20570" y="10050"/>
                  <a:pt x="20642" y="10102"/>
                  <a:pt x="20762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77040" y="4714920"/>
            <a:ext cx="903240" cy="1411200"/>
          </a:xfrm>
          <a:custGeom>
            <a:avLst/>
            <a:gdLst/>
            <a:ahLst/>
            <a:rect l="l" t="t" r="r" b="b"/>
            <a:pathLst>
              <a:path w="2506" h="3920">
                <a:moveTo>
                  <a:pt x="22076" y="13221"/>
                </a:moveTo>
                <a:cubicBezTo>
                  <a:pt x="22010" y="13365"/>
                  <a:pt x="21913" y="13499"/>
                  <a:pt x="21853" y="13643"/>
                </a:cubicBezTo>
                <a:cubicBezTo>
                  <a:pt x="21853" y="13685"/>
                  <a:pt x="21859" y="13676"/>
                  <a:pt x="21878" y="13593"/>
                </a:cubicBezTo>
              </a:path>
              <a:path w="2506" h="3920">
                <a:moveTo>
                  <a:pt x="22324" y="13097"/>
                </a:moveTo>
                <a:cubicBezTo>
                  <a:pt x="22303" y="13264"/>
                  <a:pt x="22249" y="13428"/>
                  <a:pt x="22225" y="13593"/>
                </a:cubicBezTo>
                <a:cubicBezTo>
                  <a:pt x="22198" y="13777"/>
                  <a:pt x="22312" y="13838"/>
                  <a:pt x="22498" y="13767"/>
                </a:cubicBezTo>
                <a:cubicBezTo>
                  <a:pt x="22610" y="13724"/>
                  <a:pt x="22780" y="13634"/>
                  <a:pt x="22671" y="13543"/>
                </a:cubicBezTo>
                <a:cubicBezTo>
                  <a:pt x="22544" y="13612"/>
                  <a:pt x="22475" y="13689"/>
                  <a:pt x="22399" y="13816"/>
                </a:cubicBezTo>
              </a:path>
              <a:path w="2506" h="3920">
                <a:moveTo>
                  <a:pt x="21456" y="13965"/>
                </a:moveTo>
                <a:cubicBezTo>
                  <a:pt x="21456" y="14039"/>
                  <a:pt x="21456" y="14114"/>
                  <a:pt x="21456" y="14188"/>
                </a:cubicBezTo>
                <a:cubicBezTo>
                  <a:pt x="21641" y="14207"/>
                  <a:pt x="21885" y="14105"/>
                  <a:pt x="22101" y="14114"/>
                </a:cubicBezTo>
                <a:cubicBezTo>
                  <a:pt x="22112" y="14114"/>
                  <a:pt x="22370" y="14185"/>
                  <a:pt x="22374" y="14114"/>
                </a:cubicBezTo>
                <a:cubicBezTo>
                  <a:pt x="22374" y="14039"/>
                  <a:pt x="22374" y="14015"/>
                  <a:pt x="22374" y="13965"/>
                </a:cubicBezTo>
              </a:path>
              <a:path w="2506" h="3920">
                <a:moveTo>
                  <a:pt x="21530" y="14387"/>
                </a:moveTo>
                <a:cubicBezTo>
                  <a:pt x="21628" y="14606"/>
                  <a:pt x="21630" y="14792"/>
                  <a:pt x="21630" y="15032"/>
                </a:cubicBezTo>
                <a:cubicBezTo>
                  <a:pt x="21630" y="15081"/>
                  <a:pt x="21630" y="15097"/>
                  <a:pt x="21679" y="15081"/>
                </a:cubicBezTo>
              </a:path>
              <a:path w="2506" h="3920">
                <a:moveTo>
                  <a:pt x="22175" y="14412"/>
                </a:moveTo>
                <a:cubicBezTo>
                  <a:pt x="22017" y="14428"/>
                  <a:pt x="21986" y="14427"/>
                  <a:pt x="21878" y="14536"/>
                </a:cubicBezTo>
                <a:cubicBezTo>
                  <a:pt x="21928" y="14629"/>
                  <a:pt x="22254" y="14940"/>
                  <a:pt x="22175" y="15056"/>
                </a:cubicBezTo>
                <a:cubicBezTo>
                  <a:pt x="22142" y="15073"/>
                  <a:pt x="22109" y="15089"/>
                  <a:pt x="22076" y="15106"/>
                </a:cubicBezTo>
                <a:cubicBezTo>
                  <a:pt x="21881" y="14926"/>
                  <a:pt x="22059" y="14850"/>
                  <a:pt x="22175" y="14635"/>
                </a:cubicBezTo>
                <a:cubicBezTo>
                  <a:pt x="22242" y="14510"/>
                  <a:pt x="22117" y="14504"/>
                  <a:pt x="22027" y="14461"/>
                </a:cubicBezTo>
              </a:path>
              <a:path w="2506" h="3920">
                <a:moveTo>
                  <a:pt x="20340" y="14511"/>
                </a:moveTo>
                <a:cubicBezTo>
                  <a:pt x="20319" y="14659"/>
                  <a:pt x="20224" y="14812"/>
                  <a:pt x="20216" y="14957"/>
                </a:cubicBezTo>
                <a:cubicBezTo>
                  <a:pt x="20203" y="15176"/>
                  <a:pt x="20455" y="15238"/>
                  <a:pt x="20613" y="15131"/>
                </a:cubicBezTo>
                <a:cubicBezTo>
                  <a:pt x="20700" y="15022"/>
                  <a:pt x="20738" y="14999"/>
                  <a:pt x="20687" y="14908"/>
                </a:cubicBezTo>
                <a:cubicBezTo>
                  <a:pt x="20555" y="14891"/>
                  <a:pt x="20340" y="14896"/>
                  <a:pt x="20389" y="15106"/>
                </a:cubicBezTo>
                <a:cubicBezTo>
                  <a:pt x="20406" y="15123"/>
                  <a:pt x="20422" y="15139"/>
                  <a:pt x="20439" y="15156"/>
                </a:cubicBezTo>
              </a:path>
              <a:path w="2506" h="3920">
                <a:moveTo>
                  <a:pt x="21059" y="14585"/>
                </a:moveTo>
                <a:cubicBezTo>
                  <a:pt x="21045" y="14676"/>
                  <a:pt x="21072" y="14970"/>
                  <a:pt x="21010" y="15032"/>
                </a:cubicBezTo>
                <a:cubicBezTo>
                  <a:pt x="21010" y="15015"/>
                  <a:pt x="21010" y="14999"/>
                  <a:pt x="21010" y="14982"/>
                </a:cubicBezTo>
              </a:path>
              <a:path w="2506" h="3920">
                <a:moveTo>
                  <a:pt x="20861" y="14808"/>
                </a:moveTo>
                <a:cubicBezTo>
                  <a:pt x="21003" y="14790"/>
                  <a:pt x="21138" y="14784"/>
                  <a:pt x="21282" y="14784"/>
                </a:cubicBezTo>
              </a:path>
              <a:path w="2506" h="3920">
                <a:moveTo>
                  <a:pt x="20662" y="15379"/>
                </a:moveTo>
                <a:cubicBezTo>
                  <a:pt x="20688" y="15468"/>
                  <a:pt x="20712" y="15598"/>
                  <a:pt x="20712" y="15726"/>
                </a:cubicBezTo>
                <a:cubicBezTo>
                  <a:pt x="20905" y="15656"/>
                  <a:pt x="21095" y="15594"/>
                  <a:pt x="21307" y="15577"/>
                </a:cubicBezTo>
                <a:cubicBezTo>
                  <a:pt x="21424" y="15567"/>
                  <a:pt x="21779" y="15610"/>
                  <a:pt x="21853" y="15577"/>
                </a:cubicBezTo>
                <a:cubicBezTo>
                  <a:pt x="21918" y="15548"/>
                  <a:pt x="21933" y="15347"/>
                  <a:pt x="21952" y="15280"/>
                </a:cubicBezTo>
              </a:path>
              <a:path w="2506" h="3920">
                <a:moveTo>
                  <a:pt x="21158" y="16123"/>
                </a:moveTo>
                <a:cubicBezTo>
                  <a:pt x="21114" y="16026"/>
                  <a:pt x="21358" y="16045"/>
                  <a:pt x="21431" y="16049"/>
                </a:cubicBezTo>
                <a:cubicBezTo>
                  <a:pt x="21431" y="16299"/>
                  <a:pt x="21360" y="16581"/>
                  <a:pt x="21059" y="16644"/>
                </a:cubicBezTo>
                <a:cubicBezTo>
                  <a:pt x="20930" y="16622"/>
                  <a:pt x="20892" y="16631"/>
                  <a:pt x="20861" y="16545"/>
                </a:cubicBezTo>
                <a:cubicBezTo>
                  <a:pt x="20975" y="16410"/>
                  <a:pt x="21078" y="16373"/>
                  <a:pt x="21233" y="16520"/>
                </a:cubicBezTo>
                <a:cubicBezTo>
                  <a:pt x="21253" y="16560"/>
                  <a:pt x="21262" y="16567"/>
                  <a:pt x="21258" y="16594"/>
                </a:cubicBezTo>
              </a:path>
              <a:path w="2506" h="3920">
                <a:moveTo>
                  <a:pt x="21630" y="16073"/>
                </a:moveTo>
                <a:cubicBezTo>
                  <a:pt x="21624" y="16152"/>
                  <a:pt x="21549" y="16326"/>
                  <a:pt x="21580" y="16396"/>
                </a:cubicBezTo>
                <a:cubicBezTo>
                  <a:pt x="21652" y="16555"/>
                  <a:pt x="21912" y="16394"/>
                  <a:pt x="22002" y="16346"/>
                </a:cubicBezTo>
              </a:path>
              <a:path w="2506" h="3920">
                <a:moveTo>
                  <a:pt x="22002" y="15925"/>
                </a:moveTo>
                <a:cubicBezTo>
                  <a:pt x="21953" y="16158"/>
                  <a:pt x="21909" y="16394"/>
                  <a:pt x="21828" y="16619"/>
                </a:cubicBezTo>
                <a:cubicBezTo>
                  <a:pt x="21820" y="16636"/>
                  <a:pt x="21811" y="16652"/>
                  <a:pt x="21803" y="16669"/>
                </a:cubicBezTo>
              </a:path>
              <a:path w="2506" h="3920">
                <a:moveTo>
                  <a:pt x="20414" y="16743"/>
                </a:moveTo>
                <a:cubicBezTo>
                  <a:pt x="20682" y="16918"/>
                  <a:pt x="20929" y="17013"/>
                  <a:pt x="21258" y="17016"/>
                </a:cubicBezTo>
                <a:cubicBezTo>
                  <a:pt x="21639" y="17019"/>
                  <a:pt x="22032" y="16932"/>
                  <a:pt x="22374" y="16768"/>
                </a:cubicBezTo>
                <a:cubicBezTo>
                  <a:pt x="22584" y="16667"/>
                  <a:pt x="22774" y="16536"/>
                  <a:pt x="22721" y="16272"/>
                </a:cubicBezTo>
                <a:cubicBezTo>
                  <a:pt x="22656" y="15948"/>
                  <a:pt x="22411" y="15840"/>
                  <a:pt x="22126" y="15751"/>
                </a:cubicBezTo>
                <a:cubicBezTo>
                  <a:pt x="21721" y="15624"/>
                  <a:pt x="21381" y="15679"/>
                  <a:pt x="20985" y="15801"/>
                </a:cubicBezTo>
                <a:cubicBezTo>
                  <a:pt x="20746" y="15875"/>
                  <a:pt x="20361" y="16016"/>
                  <a:pt x="20340" y="16321"/>
                </a:cubicBezTo>
                <a:cubicBezTo>
                  <a:pt x="20323" y="16574"/>
                  <a:pt x="20508" y="16713"/>
                  <a:pt x="20662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51920" y="2017800"/>
            <a:ext cx="187200" cy="169920"/>
          </a:xfrm>
          <a:custGeom>
            <a:avLst/>
            <a:gdLst/>
            <a:ahLst/>
            <a:rect l="l" t="t" r="r" b="b"/>
            <a:pathLst>
              <a:path w="521" h="472">
                <a:moveTo>
                  <a:pt x="22920" y="5631"/>
                </a:moveTo>
                <a:cubicBezTo>
                  <a:pt x="23080" y="5618"/>
                  <a:pt x="23398" y="5568"/>
                  <a:pt x="23440" y="5804"/>
                </a:cubicBezTo>
                <a:cubicBezTo>
                  <a:pt x="23474" y="5993"/>
                  <a:pt x="23224" y="6047"/>
                  <a:pt x="23093" y="6077"/>
                </a:cubicBezTo>
                <a:cubicBezTo>
                  <a:pt x="23085" y="6077"/>
                  <a:pt x="23076" y="6077"/>
                  <a:pt x="23068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70920" y="946080"/>
            <a:ext cx="187200" cy="689040"/>
          </a:xfrm>
          <a:custGeom>
            <a:avLst/>
            <a:gdLst/>
            <a:ahLst/>
            <a:rect l="l" t="t" r="r" b="b"/>
            <a:pathLst>
              <a:path w="522" h="1911">
                <a:moveTo>
                  <a:pt x="22721" y="3026"/>
                </a:moveTo>
                <a:cubicBezTo>
                  <a:pt x="22758" y="3245"/>
                  <a:pt x="22796" y="3449"/>
                  <a:pt x="22796" y="3671"/>
                </a:cubicBezTo>
                <a:cubicBezTo>
                  <a:pt x="22725" y="3424"/>
                  <a:pt x="22660" y="3198"/>
                  <a:pt x="22696" y="2927"/>
                </a:cubicBezTo>
                <a:cubicBezTo>
                  <a:pt x="22761" y="2733"/>
                  <a:pt x="22761" y="2674"/>
                  <a:pt x="22895" y="2629"/>
                </a:cubicBezTo>
                <a:cubicBezTo>
                  <a:pt x="23039" y="2738"/>
                  <a:pt x="23173" y="2851"/>
                  <a:pt x="23118" y="3051"/>
                </a:cubicBezTo>
                <a:cubicBezTo>
                  <a:pt x="23090" y="3154"/>
                  <a:pt x="22917" y="3125"/>
                  <a:pt x="22845" y="3125"/>
                </a:cubicBezTo>
              </a:path>
              <a:path w="522" h="1911">
                <a:moveTo>
                  <a:pt x="23093" y="3969"/>
                </a:moveTo>
                <a:cubicBezTo>
                  <a:pt x="23136" y="3820"/>
                  <a:pt x="22942" y="3911"/>
                  <a:pt x="22870" y="3969"/>
                </a:cubicBezTo>
                <a:cubicBezTo>
                  <a:pt x="22663" y="4137"/>
                  <a:pt x="22831" y="4174"/>
                  <a:pt x="22994" y="4118"/>
                </a:cubicBezTo>
                <a:cubicBezTo>
                  <a:pt x="23011" y="4110"/>
                  <a:pt x="23027" y="4101"/>
                  <a:pt x="23044" y="4093"/>
                </a:cubicBezTo>
                <a:cubicBezTo>
                  <a:pt x="22900" y="4133"/>
                  <a:pt x="22769" y="4256"/>
                  <a:pt x="22746" y="4415"/>
                </a:cubicBezTo>
                <a:cubicBezTo>
                  <a:pt x="22754" y="4448"/>
                  <a:pt x="22763" y="4481"/>
                  <a:pt x="22771" y="4514"/>
                </a:cubicBezTo>
                <a:cubicBezTo>
                  <a:pt x="22944" y="4522"/>
                  <a:pt x="23069" y="4522"/>
                  <a:pt x="23217" y="4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24920" y="1857240"/>
            <a:ext cx="204840" cy="339840"/>
          </a:xfrm>
          <a:custGeom>
            <a:avLst/>
            <a:gdLst/>
            <a:ahLst/>
            <a:rect l="l" t="t" r="r" b="b"/>
            <a:pathLst>
              <a:path w="572" h="944">
                <a:moveTo>
                  <a:pt x="22845" y="5259"/>
                </a:moveTo>
                <a:cubicBezTo>
                  <a:pt x="22845" y="5366"/>
                  <a:pt x="22845" y="5474"/>
                  <a:pt x="22845" y="5581"/>
                </a:cubicBezTo>
                <a:cubicBezTo>
                  <a:pt x="22856" y="5484"/>
                  <a:pt x="22849" y="5249"/>
                  <a:pt x="22944" y="5184"/>
                </a:cubicBezTo>
                <a:cubicBezTo>
                  <a:pt x="23072" y="5097"/>
                  <a:pt x="23086" y="5401"/>
                  <a:pt x="23093" y="5432"/>
                </a:cubicBezTo>
                <a:cubicBezTo>
                  <a:pt x="23101" y="5457"/>
                  <a:pt x="23110" y="5482"/>
                  <a:pt x="23118" y="5507"/>
                </a:cubicBezTo>
                <a:cubicBezTo>
                  <a:pt x="23118" y="5389"/>
                  <a:pt x="23130" y="5276"/>
                  <a:pt x="23217" y="5184"/>
                </a:cubicBezTo>
                <a:cubicBezTo>
                  <a:pt x="23327" y="5068"/>
                  <a:pt x="23416" y="5309"/>
                  <a:pt x="23416" y="5383"/>
                </a:cubicBezTo>
                <a:cubicBezTo>
                  <a:pt x="23416" y="5430"/>
                  <a:pt x="23391" y="5481"/>
                  <a:pt x="23391" y="5531"/>
                </a:cubicBezTo>
              </a:path>
              <a:path w="572" h="944">
                <a:moveTo>
                  <a:pt x="22994" y="5730"/>
                </a:moveTo>
                <a:cubicBezTo>
                  <a:pt x="22994" y="5859"/>
                  <a:pt x="22994" y="5977"/>
                  <a:pt x="23019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96200" y="2411280"/>
            <a:ext cx="187560" cy="384480"/>
          </a:xfrm>
          <a:custGeom>
            <a:avLst/>
            <a:gdLst/>
            <a:ahLst/>
            <a:rect l="l" t="t" r="r" b="b"/>
            <a:pathLst>
              <a:path w="521" h="1068">
                <a:moveTo>
                  <a:pt x="23044" y="6821"/>
                </a:moveTo>
                <a:cubicBezTo>
                  <a:pt x="23053" y="6938"/>
                  <a:pt x="23063" y="7051"/>
                  <a:pt x="23068" y="7169"/>
                </a:cubicBezTo>
                <a:cubicBezTo>
                  <a:pt x="23018" y="7305"/>
                  <a:pt x="23068" y="7031"/>
                  <a:pt x="23118" y="6896"/>
                </a:cubicBezTo>
                <a:cubicBezTo>
                  <a:pt x="23176" y="6741"/>
                  <a:pt x="23172" y="6721"/>
                  <a:pt x="23292" y="6697"/>
                </a:cubicBezTo>
                <a:cubicBezTo>
                  <a:pt x="23393" y="6857"/>
                  <a:pt x="23475" y="6995"/>
                  <a:pt x="23440" y="7193"/>
                </a:cubicBezTo>
                <a:cubicBezTo>
                  <a:pt x="23432" y="7210"/>
                  <a:pt x="23424" y="7226"/>
                  <a:pt x="23416" y="7243"/>
                </a:cubicBezTo>
              </a:path>
              <a:path w="521" h="1068">
                <a:moveTo>
                  <a:pt x="23093" y="7119"/>
                </a:moveTo>
                <a:cubicBezTo>
                  <a:pt x="23205" y="7103"/>
                  <a:pt x="23302" y="7094"/>
                  <a:pt x="23416" y="7094"/>
                </a:cubicBezTo>
              </a:path>
              <a:path w="521" h="1068">
                <a:moveTo>
                  <a:pt x="23366" y="7342"/>
                </a:moveTo>
                <a:cubicBezTo>
                  <a:pt x="23339" y="7301"/>
                  <a:pt x="23252" y="7323"/>
                  <a:pt x="23192" y="7342"/>
                </a:cubicBezTo>
                <a:cubicBezTo>
                  <a:pt x="23171" y="7349"/>
                  <a:pt x="23105" y="7407"/>
                  <a:pt x="23143" y="7441"/>
                </a:cubicBezTo>
                <a:cubicBezTo>
                  <a:pt x="23205" y="7497"/>
                  <a:pt x="23360" y="7505"/>
                  <a:pt x="23440" y="7516"/>
                </a:cubicBezTo>
                <a:cubicBezTo>
                  <a:pt x="23502" y="7525"/>
                  <a:pt x="23594" y="7594"/>
                  <a:pt x="23564" y="7689"/>
                </a:cubicBezTo>
                <a:cubicBezTo>
                  <a:pt x="23524" y="7816"/>
                  <a:pt x="23249" y="7765"/>
                  <a:pt x="23168" y="7739"/>
                </a:cubicBezTo>
                <a:cubicBezTo>
                  <a:pt x="23145" y="7716"/>
                  <a:pt x="23141" y="7708"/>
                  <a:pt x="23118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84960" y="3286080"/>
            <a:ext cx="598320" cy="438120"/>
          </a:xfrm>
          <a:custGeom>
            <a:avLst/>
            <a:gdLst/>
            <a:ahLst/>
            <a:rect l="l" t="t" r="r" b="b"/>
            <a:pathLst>
              <a:path w="1663" h="1217">
                <a:moveTo>
                  <a:pt x="17735" y="9327"/>
                </a:moveTo>
                <a:cubicBezTo>
                  <a:pt x="17735" y="9259"/>
                  <a:pt x="17735" y="9434"/>
                  <a:pt x="17735" y="9451"/>
                </a:cubicBezTo>
                <a:cubicBezTo>
                  <a:pt x="17735" y="9475"/>
                  <a:pt x="17735" y="9484"/>
                  <a:pt x="17735" y="9500"/>
                </a:cubicBezTo>
                <a:cubicBezTo>
                  <a:pt x="17907" y="9444"/>
                  <a:pt x="18063" y="9387"/>
                  <a:pt x="18256" y="9376"/>
                </a:cubicBezTo>
                <a:cubicBezTo>
                  <a:pt x="18424" y="9367"/>
                  <a:pt x="18560" y="9362"/>
                  <a:pt x="18703" y="9426"/>
                </a:cubicBezTo>
                <a:cubicBezTo>
                  <a:pt x="18703" y="9327"/>
                  <a:pt x="18703" y="9227"/>
                  <a:pt x="18703" y="9128"/>
                </a:cubicBezTo>
              </a:path>
              <a:path w="1663" h="1217">
                <a:moveTo>
                  <a:pt x="18579" y="9798"/>
                </a:moveTo>
                <a:cubicBezTo>
                  <a:pt x="18518" y="9761"/>
                  <a:pt x="18354" y="9739"/>
                  <a:pt x="18281" y="9748"/>
                </a:cubicBezTo>
                <a:cubicBezTo>
                  <a:pt x="18270" y="9749"/>
                  <a:pt x="18216" y="9964"/>
                  <a:pt x="18207" y="9996"/>
                </a:cubicBezTo>
                <a:cubicBezTo>
                  <a:pt x="18284" y="10074"/>
                  <a:pt x="18413" y="9933"/>
                  <a:pt x="18529" y="9947"/>
                </a:cubicBezTo>
                <a:cubicBezTo>
                  <a:pt x="18734" y="9972"/>
                  <a:pt x="18704" y="10242"/>
                  <a:pt x="18554" y="10319"/>
                </a:cubicBezTo>
                <a:cubicBezTo>
                  <a:pt x="18505" y="10344"/>
                  <a:pt x="18168" y="10369"/>
                  <a:pt x="18157" y="10269"/>
                </a:cubicBezTo>
                <a:cubicBezTo>
                  <a:pt x="18165" y="10261"/>
                  <a:pt x="18174" y="10252"/>
                  <a:pt x="18182" y="10244"/>
                </a:cubicBezTo>
              </a:path>
              <a:path w="1663" h="1217">
                <a:moveTo>
                  <a:pt x="18951" y="9897"/>
                </a:moveTo>
                <a:cubicBezTo>
                  <a:pt x="18999" y="9945"/>
                  <a:pt x="18996" y="10103"/>
                  <a:pt x="19000" y="10195"/>
                </a:cubicBezTo>
                <a:cubicBezTo>
                  <a:pt x="19000" y="10202"/>
                  <a:pt x="19000" y="10285"/>
                  <a:pt x="19000" y="10220"/>
                </a:cubicBezTo>
              </a:path>
              <a:path w="1663" h="1217">
                <a:moveTo>
                  <a:pt x="18852" y="10021"/>
                </a:moveTo>
                <a:cubicBezTo>
                  <a:pt x="18976" y="10021"/>
                  <a:pt x="19100" y="10021"/>
                  <a:pt x="19224" y="10021"/>
                </a:cubicBezTo>
              </a:path>
              <a:path w="1663" h="1217">
                <a:moveTo>
                  <a:pt x="19372" y="9798"/>
                </a:moveTo>
                <a:cubicBezTo>
                  <a:pt x="19429" y="9817"/>
                  <a:pt x="19397" y="10018"/>
                  <a:pt x="19397" y="10071"/>
                </a:cubicBezTo>
                <a:cubicBezTo>
                  <a:pt x="19397" y="10129"/>
                  <a:pt x="19397" y="10186"/>
                  <a:pt x="19397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34120" y="3554280"/>
            <a:ext cx="144720" cy="81000"/>
          </a:xfrm>
          <a:custGeom>
            <a:avLst/>
            <a:gdLst/>
            <a:ahLst/>
            <a:rect l="l" t="t" r="r" b="b"/>
            <a:pathLst>
              <a:path w="398" h="225">
                <a:moveTo>
                  <a:pt x="19819" y="9922"/>
                </a:moveTo>
                <a:cubicBezTo>
                  <a:pt x="19914" y="9903"/>
                  <a:pt x="20083" y="9838"/>
                  <a:pt x="20141" y="9897"/>
                </a:cubicBezTo>
              </a:path>
              <a:path w="398" h="225">
                <a:moveTo>
                  <a:pt x="19893" y="10096"/>
                </a:moveTo>
                <a:cubicBezTo>
                  <a:pt x="20006" y="10083"/>
                  <a:pt x="20102" y="10076"/>
                  <a:pt x="20216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8200" y="4510080"/>
            <a:ext cx="741600" cy="507960"/>
          </a:xfrm>
          <a:custGeom>
            <a:avLst/>
            <a:gdLst/>
            <a:ahLst/>
            <a:rect l="l" t="t" r="r" b="b"/>
            <a:pathLst>
              <a:path w="2060" h="1415">
                <a:moveTo>
                  <a:pt x="19496" y="12725"/>
                </a:moveTo>
                <a:cubicBezTo>
                  <a:pt x="19534" y="12864"/>
                  <a:pt x="19495" y="12852"/>
                  <a:pt x="19645" y="12824"/>
                </a:cubicBezTo>
                <a:cubicBezTo>
                  <a:pt x="19916" y="12773"/>
                  <a:pt x="20167" y="12774"/>
                  <a:pt x="20439" y="12799"/>
                </a:cubicBezTo>
                <a:cubicBezTo>
                  <a:pt x="20447" y="12799"/>
                  <a:pt x="20456" y="12799"/>
                  <a:pt x="20464" y="12799"/>
                </a:cubicBezTo>
                <a:cubicBezTo>
                  <a:pt x="20464" y="12704"/>
                  <a:pt x="20565" y="12605"/>
                  <a:pt x="20513" y="12526"/>
                </a:cubicBezTo>
                <a:cubicBezTo>
                  <a:pt x="20497" y="12526"/>
                  <a:pt x="20480" y="12526"/>
                  <a:pt x="20464" y="12526"/>
                </a:cubicBezTo>
              </a:path>
              <a:path w="2060" h="1415">
                <a:moveTo>
                  <a:pt x="19893" y="13146"/>
                </a:moveTo>
                <a:cubicBezTo>
                  <a:pt x="19881" y="13344"/>
                  <a:pt x="19814" y="13522"/>
                  <a:pt x="19794" y="13717"/>
                </a:cubicBezTo>
                <a:cubicBezTo>
                  <a:pt x="19768" y="13973"/>
                  <a:pt x="20059" y="14014"/>
                  <a:pt x="20241" y="13891"/>
                </a:cubicBezTo>
                <a:cubicBezTo>
                  <a:pt x="20382" y="13795"/>
                  <a:pt x="20408" y="13702"/>
                  <a:pt x="20365" y="13593"/>
                </a:cubicBezTo>
                <a:cubicBezTo>
                  <a:pt x="20242" y="13584"/>
                  <a:pt x="20101" y="13623"/>
                  <a:pt x="20092" y="13791"/>
                </a:cubicBezTo>
                <a:cubicBezTo>
                  <a:pt x="20100" y="13799"/>
                  <a:pt x="20109" y="13808"/>
                  <a:pt x="20117" y="13816"/>
                </a:cubicBezTo>
              </a:path>
              <a:path w="2060" h="1415">
                <a:moveTo>
                  <a:pt x="20712" y="13295"/>
                </a:moveTo>
                <a:cubicBezTo>
                  <a:pt x="20723" y="13420"/>
                  <a:pt x="20721" y="13604"/>
                  <a:pt x="20762" y="13717"/>
                </a:cubicBezTo>
                <a:cubicBezTo>
                  <a:pt x="20770" y="13717"/>
                  <a:pt x="20778" y="13717"/>
                  <a:pt x="20786" y="13717"/>
                </a:cubicBezTo>
              </a:path>
              <a:path w="2060" h="1415">
                <a:moveTo>
                  <a:pt x="20638" y="13444"/>
                </a:moveTo>
                <a:cubicBezTo>
                  <a:pt x="20778" y="13455"/>
                  <a:pt x="20873" y="13454"/>
                  <a:pt x="21010" y="13444"/>
                </a:cubicBezTo>
              </a:path>
              <a:path w="2060" h="1415">
                <a:moveTo>
                  <a:pt x="21183" y="13196"/>
                </a:moveTo>
                <a:cubicBezTo>
                  <a:pt x="21240" y="13186"/>
                  <a:pt x="21398" y="13121"/>
                  <a:pt x="21431" y="13221"/>
                </a:cubicBezTo>
                <a:cubicBezTo>
                  <a:pt x="21462" y="13316"/>
                  <a:pt x="21261" y="13426"/>
                  <a:pt x="21208" y="13469"/>
                </a:cubicBezTo>
                <a:cubicBezTo>
                  <a:pt x="21356" y="13434"/>
                  <a:pt x="21515" y="13449"/>
                  <a:pt x="21555" y="13643"/>
                </a:cubicBezTo>
                <a:cubicBezTo>
                  <a:pt x="21597" y="13845"/>
                  <a:pt x="21158" y="13899"/>
                  <a:pt x="21109" y="13742"/>
                </a:cubicBezTo>
                <a:cubicBezTo>
                  <a:pt x="21125" y="13692"/>
                  <a:pt x="21142" y="13643"/>
                  <a:pt x="21158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W pg. 7 (1-17 odd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e Tuesday, September 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70280" y="1295280"/>
            <a:ext cx="420840" cy="847800"/>
          </a:xfrm>
          <a:custGeom>
            <a:avLst/>
            <a:gdLst/>
            <a:ahLst/>
            <a:rect l="l" t="t" r="r" b="b"/>
            <a:pathLst>
              <a:path w="1167" h="2357">
                <a:moveTo>
                  <a:pt x="13816" y="4787"/>
                </a:moveTo>
                <a:cubicBezTo>
                  <a:pt x="13792" y="4861"/>
                  <a:pt x="13786" y="4847"/>
                  <a:pt x="13742" y="4911"/>
                </a:cubicBezTo>
                <a:cubicBezTo>
                  <a:pt x="13516" y="5236"/>
                  <a:pt x="13226" y="5548"/>
                  <a:pt x="13097" y="5928"/>
                </a:cubicBezTo>
                <a:cubicBezTo>
                  <a:pt x="13007" y="6192"/>
                  <a:pt x="13433" y="5492"/>
                  <a:pt x="13618" y="5283"/>
                </a:cubicBezTo>
                <a:cubicBezTo>
                  <a:pt x="13782" y="5099"/>
                  <a:pt x="13985" y="4883"/>
                  <a:pt x="14139" y="4688"/>
                </a:cubicBezTo>
                <a:cubicBezTo>
                  <a:pt x="13821" y="5025"/>
                  <a:pt x="13503" y="5358"/>
                  <a:pt x="13196" y="5705"/>
                </a:cubicBezTo>
                <a:cubicBezTo>
                  <a:pt x="13138" y="5771"/>
                  <a:pt x="13080" y="5838"/>
                  <a:pt x="13022" y="5904"/>
                </a:cubicBezTo>
                <a:cubicBezTo>
                  <a:pt x="12865" y="6021"/>
                  <a:pt x="13428" y="5401"/>
                  <a:pt x="13444" y="5383"/>
                </a:cubicBezTo>
                <a:cubicBezTo>
                  <a:pt x="13725" y="5056"/>
                  <a:pt x="14008" y="4594"/>
                  <a:pt x="13444" y="5184"/>
                </a:cubicBezTo>
                <a:cubicBezTo>
                  <a:pt x="13378" y="5253"/>
                  <a:pt x="12749" y="6017"/>
                  <a:pt x="13320" y="5358"/>
                </a:cubicBezTo>
                <a:cubicBezTo>
                  <a:pt x="13447" y="5211"/>
                  <a:pt x="13888" y="4878"/>
                  <a:pt x="13593" y="4936"/>
                </a:cubicBezTo>
                <a:cubicBezTo>
                  <a:pt x="13403" y="5126"/>
                  <a:pt x="13212" y="5317"/>
                  <a:pt x="13022" y="5507"/>
                </a:cubicBezTo>
                <a:cubicBezTo>
                  <a:pt x="13293" y="5264"/>
                  <a:pt x="14106" y="4556"/>
                  <a:pt x="13791" y="4738"/>
                </a:cubicBezTo>
                <a:cubicBezTo>
                  <a:pt x="13581" y="4859"/>
                  <a:pt x="13156" y="5431"/>
                  <a:pt x="13196" y="5407"/>
                </a:cubicBezTo>
                <a:cubicBezTo>
                  <a:pt x="13348" y="5314"/>
                  <a:pt x="13886" y="4645"/>
                  <a:pt x="13618" y="4936"/>
                </a:cubicBezTo>
                <a:cubicBezTo>
                  <a:pt x="13455" y="5113"/>
                  <a:pt x="13357" y="5300"/>
                  <a:pt x="13246" y="5507"/>
                </a:cubicBezTo>
                <a:cubicBezTo>
                  <a:pt x="13373" y="5416"/>
                  <a:pt x="13904" y="4901"/>
                  <a:pt x="13692" y="5159"/>
                </a:cubicBezTo>
                <a:cubicBezTo>
                  <a:pt x="13671" y="5185"/>
                  <a:pt x="13053" y="5898"/>
                  <a:pt x="13320" y="5705"/>
                </a:cubicBezTo>
                <a:cubicBezTo>
                  <a:pt x="13590" y="5510"/>
                  <a:pt x="13866" y="5160"/>
                  <a:pt x="13519" y="5631"/>
                </a:cubicBezTo>
                <a:cubicBezTo>
                  <a:pt x="13238" y="6014"/>
                  <a:pt x="13559" y="5638"/>
                  <a:pt x="13643" y="5556"/>
                </a:cubicBezTo>
                <a:cubicBezTo>
                  <a:pt x="13850" y="5355"/>
                  <a:pt x="13336" y="5857"/>
                  <a:pt x="13345" y="5854"/>
                </a:cubicBezTo>
                <a:cubicBezTo>
                  <a:pt x="13435" y="5821"/>
                  <a:pt x="13723" y="5500"/>
                  <a:pt x="13816" y="5358"/>
                </a:cubicBezTo>
                <a:cubicBezTo>
                  <a:pt x="13800" y="5366"/>
                  <a:pt x="13783" y="5375"/>
                  <a:pt x="13767" y="5383"/>
                </a:cubicBezTo>
              </a:path>
              <a:path w="1167" h="2357">
                <a:moveTo>
                  <a:pt x="13816" y="3721"/>
                </a:moveTo>
                <a:cubicBezTo>
                  <a:pt x="13749" y="3704"/>
                  <a:pt x="13693" y="3643"/>
                  <a:pt x="13618" y="3621"/>
                </a:cubicBezTo>
                <a:cubicBezTo>
                  <a:pt x="13555" y="3602"/>
                  <a:pt x="13540" y="3590"/>
                  <a:pt x="13469" y="3621"/>
                </a:cubicBezTo>
                <a:cubicBezTo>
                  <a:pt x="13381" y="3659"/>
                  <a:pt x="13333" y="3703"/>
                  <a:pt x="13295" y="3795"/>
                </a:cubicBezTo>
                <a:cubicBezTo>
                  <a:pt x="13262" y="3875"/>
                  <a:pt x="13242" y="4025"/>
                  <a:pt x="13295" y="4093"/>
                </a:cubicBezTo>
                <a:cubicBezTo>
                  <a:pt x="13355" y="4171"/>
                  <a:pt x="13450" y="4184"/>
                  <a:pt x="13543" y="4167"/>
                </a:cubicBezTo>
                <a:cubicBezTo>
                  <a:pt x="13604" y="4156"/>
                  <a:pt x="13647" y="4124"/>
                  <a:pt x="13692" y="4093"/>
                </a:cubicBezTo>
                <a:cubicBezTo>
                  <a:pt x="13767" y="4041"/>
                  <a:pt x="13855" y="4008"/>
                  <a:pt x="13891" y="3919"/>
                </a:cubicBezTo>
                <a:cubicBezTo>
                  <a:pt x="13926" y="3833"/>
                  <a:pt x="13919" y="3773"/>
                  <a:pt x="13866" y="3696"/>
                </a:cubicBezTo>
                <a:cubicBezTo>
                  <a:pt x="13834" y="3650"/>
                  <a:pt x="13768" y="3628"/>
                  <a:pt x="13717" y="3621"/>
                </a:cubicBezTo>
                <a:cubicBezTo>
                  <a:pt x="13637" y="3610"/>
                  <a:pt x="13545" y="3663"/>
                  <a:pt x="13494" y="3721"/>
                </a:cubicBezTo>
                <a:cubicBezTo>
                  <a:pt x="13473" y="3745"/>
                  <a:pt x="13328" y="3936"/>
                  <a:pt x="13419" y="3944"/>
                </a:cubicBezTo>
                <a:cubicBezTo>
                  <a:pt x="13452" y="3936"/>
                  <a:pt x="13486" y="3927"/>
                  <a:pt x="13519" y="3919"/>
                </a:cubicBezTo>
              </a:path>
              <a:path w="1167" h="2357">
                <a:moveTo>
                  <a:pt x="14015" y="3721"/>
                </a:moveTo>
                <a:cubicBezTo>
                  <a:pt x="13954" y="3843"/>
                  <a:pt x="13956" y="4051"/>
                  <a:pt x="13965" y="4192"/>
                </a:cubicBezTo>
                <a:cubicBezTo>
                  <a:pt x="13972" y="4308"/>
                  <a:pt x="13990" y="4399"/>
                  <a:pt x="13990" y="4514"/>
                </a:cubicBezTo>
                <a:cubicBezTo>
                  <a:pt x="13990" y="4391"/>
                  <a:pt x="13958" y="4263"/>
                  <a:pt x="13940" y="4142"/>
                </a:cubicBezTo>
                <a:cubicBezTo>
                  <a:pt x="13936" y="4115"/>
                  <a:pt x="13915" y="3681"/>
                  <a:pt x="13915" y="3820"/>
                </a:cubicBezTo>
                <a:cubicBezTo>
                  <a:pt x="13915" y="3828"/>
                  <a:pt x="13915" y="3837"/>
                  <a:pt x="13915" y="3845"/>
                </a:cubicBezTo>
                <a:cubicBezTo>
                  <a:pt x="13959" y="4114"/>
                  <a:pt x="13965" y="4364"/>
                  <a:pt x="13965" y="4638"/>
                </a:cubicBezTo>
                <a:cubicBezTo>
                  <a:pt x="13965" y="4655"/>
                  <a:pt x="13965" y="4671"/>
                  <a:pt x="13965" y="4688"/>
                </a:cubicBezTo>
                <a:cubicBezTo>
                  <a:pt x="13965" y="4542"/>
                  <a:pt x="13931" y="4418"/>
                  <a:pt x="13940" y="4266"/>
                </a:cubicBezTo>
                <a:cubicBezTo>
                  <a:pt x="13942" y="4225"/>
                  <a:pt x="13950" y="3782"/>
                  <a:pt x="13965" y="3894"/>
                </a:cubicBezTo>
                <a:cubicBezTo>
                  <a:pt x="13988" y="4068"/>
                  <a:pt x="13992" y="4219"/>
                  <a:pt x="13965" y="4390"/>
                </a:cubicBezTo>
              </a:path>
              <a:path w="1167" h="2357">
                <a:moveTo>
                  <a:pt x="13965" y="3795"/>
                </a:moveTo>
                <a:cubicBezTo>
                  <a:pt x="13899" y="3749"/>
                  <a:pt x="13829" y="3708"/>
                  <a:pt x="13717" y="3721"/>
                </a:cubicBezTo>
                <a:cubicBezTo>
                  <a:pt x="13553" y="3739"/>
                  <a:pt x="13488" y="3901"/>
                  <a:pt x="13444" y="4043"/>
                </a:cubicBezTo>
                <a:cubicBezTo>
                  <a:pt x="13436" y="4084"/>
                  <a:pt x="13427" y="4126"/>
                  <a:pt x="13419" y="4167"/>
                </a:cubicBezTo>
                <a:cubicBezTo>
                  <a:pt x="13574" y="4258"/>
                  <a:pt x="13763" y="4268"/>
                  <a:pt x="13891" y="4093"/>
                </a:cubicBezTo>
                <a:cubicBezTo>
                  <a:pt x="13989" y="3960"/>
                  <a:pt x="13972" y="3881"/>
                  <a:pt x="13940" y="3746"/>
                </a:cubicBezTo>
                <a:cubicBezTo>
                  <a:pt x="13811" y="3696"/>
                  <a:pt x="13698" y="3616"/>
                  <a:pt x="13568" y="3721"/>
                </a:cubicBezTo>
                <a:cubicBezTo>
                  <a:pt x="13508" y="3770"/>
                  <a:pt x="13326" y="4154"/>
                  <a:pt x="13395" y="4217"/>
                </a:cubicBezTo>
                <a:cubicBezTo>
                  <a:pt x="13604" y="4409"/>
                  <a:pt x="13905" y="3986"/>
                  <a:pt x="13990" y="3870"/>
                </a:cubicBezTo>
                <a:cubicBezTo>
                  <a:pt x="14026" y="3796"/>
                  <a:pt x="14043" y="3792"/>
                  <a:pt x="14039" y="3746"/>
                </a:cubicBezTo>
                <a:cubicBezTo>
                  <a:pt x="14051" y="3944"/>
                  <a:pt x="14079" y="4143"/>
                  <a:pt x="14089" y="4341"/>
                </a:cubicBezTo>
                <a:cubicBezTo>
                  <a:pt x="14094" y="4447"/>
                  <a:pt x="14089" y="4557"/>
                  <a:pt x="14089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08T19:28:01Z</dcterms:modified>
  <cp:revision>51</cp:revision>
  <dc:subject/>
  <dc:title>Unit 1 – Variables and Equations </dc:title>
</cp:coreProperties>
</file>